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E61-0F00-4F18-BB10-3933170A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5A6-439A-4C4A-9DA9-1C33F68E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43C-1D20-42B5-A28F-5267BF08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A4F-0E77-46F0-9D04-2045DF0A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D54-1842-4E32-9B08-FB3E223A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574-3E16-4E72-8FD6-00AFD0A9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DC5-11C1-43B0-82F2-52F603AC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C84-4094-437A-8492-43556BD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09F-64F7-4CB0-A9D2-5B3CAF32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0DF-36F7-4B5B-AE93-2172795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15D-C4B6-4BF8-8513-B4FDCDC0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869-531C-4FA4-8D1A-2FCBDB42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F353-6244-404D-8287-0A1B9CFFD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565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00"/>
                </a:solidFill>
                <a:latin typeface="Arial"/>
              </a:rPr>
              <a:t>NEURONSKE MREŽ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Biolog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3960720" cy="2087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32000" y="3645000"/>
            <a:ext cx="7345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Dendrit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receptivne mreže nervnih vlakana, i vode električne signale do tela ćeli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Telo ćeli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mira i ograničava ove dolazne sig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Akso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dugačko vlakno koje prenosi signale od tela ćelije do drugih neur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kontakta između aksona jedne ćelije i dendrita drugih ćelija zove se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sinaps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Biolog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396072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58920" y="3573360"/>
            <a:ext cx="734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zmeštaj neurona i jačine pojedinačnih sinapsi određuju funkciju neuronske mrež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i delovi nervne strukture definisani su rođenjem, a drugi se razvijaju učenjem, tako što se uspostavljaju nove veze, a druge se gube. Ovaj razvoj je najintenzivniji u ranoj fazi živ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rvne strukture nastavljaju da se menjaju tokom života. Kasnije promene se uglavnom ogledaju u jačanju i slabljenju sinap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4221000"/>
            <a:ext cx="80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ziv neurona je spor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poređenju 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nska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Biolog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989000"/>
            <a:ext cx="73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ve osnovne sličnosti između veštačkih i prirodnih neuronskih mrež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adivni blokovi su jednostavne jedinice jako povez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ze između neurona određuju funkciju mre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Neuron sa jednim ulaz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176720" cy="340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51640" y="2205000"/>
            <a:ext cx="273672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ul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weight, tež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ias, threshold, p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zlaz iz sabira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prenosna fun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zl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Neuron sa jednim ulaz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176720" cy="3405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321080" cy="338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56000" y="5229360"/>
            <a:ext cx="41036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ina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- jačina sin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birač i prenosna funcija-telo ćel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laz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signal na aks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Neuron sa jednim ulaz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72000" cy="2993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12000" y="23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 = f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wp+b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3573360"/>
            <a:ext cx="266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=3, 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=2, 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=-1.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a = f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5373720"/>
            <a:ext cx="62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parametri koji se podešavaju korišćenjem nekog pravila učenja, tako da se postigne određeni cil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Prenosne funk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615360" cy="231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1557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 funkcija se bira da zadovolji određenu specifikaciju ili da reši problem koji neuronska mreža treba da reš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5013360"/>
            <a:ext cx="2879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izlaz je 0 ako je argument funkcije manji od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izlaz je 1 ako je argument funkcije veći ili jedna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515772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U/I karakteristika neurona koji koristi ovu funkci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Prenosne funk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505920" cy="248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3640" y="1628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inearna prenosna fun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5013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=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Prenosne funk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176880" cy="2303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03280" y="1413000"/>
            <a:ext cx="64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gmoidna prenosna fun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isti se kod višeslojnih mreža koje se obučavaju korišćenjem backpropagation algorit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780000" y="5229360"/>
                <a:ext cx="16556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Prenosne funk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954000"/>
            <a:ext cx="4897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3020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0: von Hemholtz, Mach, Pavlov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t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pšte teorije učenja, vida, uslovlj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e postoji matematički model rada neu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Hebb, McCulloch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it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ha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čenja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olo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ški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uro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reže veštačkih neurona mogu da računaju svaku aritmetičku i logičku funk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Rosenblatt, Widrow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ne primene veštačkih neuronskih mreža i pravila uč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insky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kazali su ograničenja postojećih neuronskih mrež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ema novih algoritama, istraživanja su obustavlj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mari, Anderson, Fukushima, Grossberg, Koh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predak se nastavlja, iako sporijim temp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Istor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Neuron sa više ula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978360" cy="3465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19640" y="1844640"/>
            <a:ext cx="27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 ulaznih neu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aki ima svoju tež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3284640"/>
            <a:ext cx="388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,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+...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,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005360"/>
            <a:ext cx="151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486900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a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Neuron sa više ula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978360" cy="3465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36734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Slojevi neurona</a:t>
            </a:r>
            <a:br>
              <a:rPr sz="3600"/>
            </a:b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-mreža sa jednim sloje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3306600" cy="42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19640" y="3068640"/>
            <a:ext cx="331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potpuno povezana mrež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ne moraju svi neuroni da imaju iste prenosne fun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Slojevi neurona</a:t>
            </a:r>
            <a:br>
              <a:rPr sz="3600"/>
            </a:b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-mreža sa jednim sloje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700440" cy="475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671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Slojevi neurona</a:t>
            </a:r>
            <a:br>
              <a:rPr sz="3600"/>
            </a:b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-mreža sa više slojev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812000" cy="4070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5877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voslojna mreža sa sigmoidnom funkcijom u prvom sloju i linearnom u drugom može da se obuči da odlično aproksimira većinu fun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Slojevi neurona</a:t>
            </a:r>
            <a:br>
              <a:rPr sz="3600"/>
            </a:b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-mreža sa više slojev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2814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4581360"/>
            <a:ext cx="6572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Blok kašnjenj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03640" y="1628640"/>
            <a:ext cx="2422440" cy="3283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19640" y="5516640"/>
            <a:ext cx="23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 = u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Rekurentna neuronska mrež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48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413000"/>
            <a:ext cx="81360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Grossberg, Hopfield, Kohonen, Rumelhart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t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ova značajna otkrića vraćaju interesovanje za 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aju dostupni novi personalni računari i radne st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vode se novi koncep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statistički mehanizmi koji objašnjavaju rad određene klase rekurentnih mreža, koje bi mogle da se koriste kao asocijativne memor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backpropagation algoritam za obučavanj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išeslojnih percept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Istor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2708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akva je budućnost neuronskih mrež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Prim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314360"/>
            <a:ext cx="89647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azduhoplovst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utopiloti odličnih performansi, simulacije putanje leta, vazduhoplovni kontrolni sistemi, simulacije vazduhoplovnih komponenti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li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bi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k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toma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k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ođen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lizatori aktivnosti garancije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itači čekova i drugih dokumenata, procena primene kredita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ravljanje oružjem, praćenje mete, razlikovanje objekata, prepoznavanje lika, nove vrste senzora, sonara, radara i obrade slike uključujući kompresiju podataka, ekstrakciju slike i potiskivanje šuma, identifikaciju slike i sig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000000"/>
                </a:solidFill>
                <a:latin typeface="Arial"/>
              </a:rPr>
              <a:t>Prim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557360"/>
            <a:ext cx="8137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n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dviđanje kodne sekvence, lejaut čipa integrisanog kola, kontrola procesa, analiza otkaza čipa, sinteza glasa, </a:t>
            </a:r>
            <a:r>
              <a:rPr b="0" i="1" lang="sr-Latn-CS" sz="2000" spc="-1" strike="noStrike">
                <a:solidFill>
                  <a:srgbClr val="a50021"/>
                </a:solidFill>
                <a:latin typeface="Arial"/>
              </a:rPr>
              <a:t>nelinearno modelovanje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a50021"/>
                </a:solidFill>
                <a:latin typeface="Arial"/>
              </a:rPr>
              <a:t>dijagnostika defe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na vrednosti nekretnin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savetovanje u vezi kredita, procena hipoteke, rangiranje korporativnih obveznica, analiza korišćenja kreditne linije, portfolio trgovinskog programa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porativna finansijska anali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v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je cene val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Prim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125360"/>
            <a:ext cx="8642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trola procesa proizvodnje, analiza i dizajn proizvoda, dijagnoza procesa i mašina, identifikacija čestica u realnom vremenu, sistemi za nadzor vizuelnog kvaliteta, testiranje piva, predviđanje kvaliteta papira, analiza kvaliteta kompjuterskog čipa, planiranje i menadžment, dinamičko modelovanje sistema hemijskih proc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liza ćelija raka dojke, EEG i EKG analize, dizajn proteza, optimizacija vremena transplatacije, smanjivanje bolničkih troš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ot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trola trajektorije, roboti viljuškari, sistemi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Prim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0360" y="981000"/>
            <a:ext cx="8783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o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poznavanje govora, kompresija govora, klasifikacija samoglasnika, sinteza go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iguranj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i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liza tržišta, automatsko rangiranje obveznica, sistemi za trgovinu akci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un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resija slike i podataka, automatski informacioni servisi, prevod govornog jezika u realnom vremenu, sistemi za plać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i za dijagnozu kočnica, upravljanje vozilom, sistemi za usmer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Biolog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360" y="1341360"/>
            <a:ext cx="4590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zak koristi paralelna izračun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ur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moz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 po neur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48326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1:45:52Z</dcterms:created>
  <dc:creator>miona</dc:creator>
  <dc:description/>
  <dc:language>en-US</dc:language>
  <cp:lastModifiedBy>miona</cp:lastModifiedBy>
  <dcterms:modified xsi:type="dcterms:W3CDTF">2005-11-10T12:57:26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86315625</vt:r8>
  </property>
  <property fmtid="{D5CDD505-2E9C-101B-9397-08002B2CF9AE}" pid="3" name="_AuthorEmail">
    <vt:lpwstr>miona@elfak.ni.ac.yu</vt:lpwstr>
  </property>
  <property fmtid="{D5CDD505-2E9C-101B-9397-08002B2CF9AE}" pid="4" name="_AuthorEmailDisplayName">
    <vt:lpwstr>Miona Andrejevic</vt:lpwstr>
  </property>
  <property fmtid="{D5CDD505-2E9C-101B-9397-08002B2CF9AE}" pid="5" name="_EmailSubject">
    <vt:lpwstr/>
  </property>
</Properties>
</file>