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0394-E28E-4DE2-ADAE-94497944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D3F2-84E3-47A7-AD6C-C40DF646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058F-570C-424C-A398-96CA97B2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DA84-F3C1-4964-ABDB-35DC355C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0EB9E-BEB6-4A46-9351-4B907889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2E547-6946-45D4-9D92-3E586EA4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3986A-A10A-4CF1-B0E0-D440B448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45CBB-1EA4-46D7-9509-0A81B4A0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70D9C-F93C-404F-BC5F-5705DBF2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AC8E8-2250-43FB-A226-979756AA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85098-6E33-46E0-A946-239F468A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F6F-8676-4689-AA20-3A269E3E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F42B3-7A3B-4066-9B3F-16469DBE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741ED-09A9-4DB1-8274-C26A4CD9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63D28-54C6-4F1E-91F6-6097F105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B9C84-241F-463A-B5A3-88C3B759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ADA86-C461-471B-9370-AEFD209E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BFE8-04B8-43AC-BC72-1CDF27C7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16A0-2F75-4E2E-84F7-47C35A4E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3C6-0CC7-4556-8687-C9DCF187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7755-6998-40DE-91BE-4469F930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764B-B475-4FA4-910B-4538E941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08A2-09DC-429A-8D5A-A94579ED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CBC1-2B45-4747-B3A8-F44DC54A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0E7A-758A-4DFB-B084-C573A1FBD7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9DCF-8717-4CC3-A1D5-B1E23F19C4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Tahoma"/>
              </a:rPr>
              <a:t>Неуронске мреже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ack-Propagation </a:t>
            </a:r>
            <a:r>
              <a:rPr b="0" lang="sr-CS" sz="4400" spc="-1" strike="noStrike">
                <a:solidFill>
                  <a:srgbClr val="ffffff"/>
                </a:solidFill>
                <a:latin typeface="Tahoma"/>
              </a:rPr>
              <a:t>алгорита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ример коришћења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fe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forw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мреж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ahoma"/>
              </a:rPr>
              <a:t>Друге активационе функциј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сновна разлика између Фуријеовог приступа и приступ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k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agation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је та да се у Фуријеовом приступу тежине између улаза и скривених јединица (овде су то фактори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n)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фиксни целобројни бројеви који су аналитички одређени, док код прилаз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k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agation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те тежине могу узети било коју вредност и типично учење користећи хеуристику за учењ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ahoma"/>
              </a:rPr>
              <a:t>Друге активационе функциј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ahoma"/>
              </a:rPr>
              <a:t>Друге активационе функциј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Да бисмо илустровали коришћење друге активационе функције тестирали смо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ed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ward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мрежу са једном излазном јединицом, четири скривене јединице, и један улаз са десет узорака узетих из функције.                  Резултат је приказан на слици. Иста функција (мада са другим тачкама учења) је учена помоћу мреже са 8 збирних скривених јединица (види слику). Из претходног је јасно да се више исплати коришћење знања проблема што је више могућ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629400" y="3352680"/>
                <a:ext cx="220968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ahoma"/>
              </a:rPr>
              <a:t>Мане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back-propagation </a:t>
            </a:r>
            <a:r>
              <a:rPr b="1" lang="sr-CS" sz="4000" spc="-1" strike="noStrike">
                <a:solidFill>
                  <a:srgbClr val="ffffff"/>
                </a:solidFill>
                <a:latin typeface="Tahoma"/>
              </a:rPr>
              <a:t>        алгоритма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уг процес учења, што може бити резултат неоптимизиране брзине и снаге учења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омплетни неуспеси тренинга генерално потичу из два извора: парализа мреже и локални миниму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арализа мреже: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Како мрежа тренира, тежине могу бити подешене на веома велике вредности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Тотални унос скривених јединица може зато достићи веома високе (позитивне или негативне) вредности, и због збирне активационе функције јединица ће имати активацију веома блиску нули или веома блиску јединици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ahoma"/>
              </a:rPr>
              <a:t>Мане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back-propagation </a:t>
            </a:r>
            <a:r>
              <a:rPr b="1" lang="sr-CS" sz="4000" spc="-1" strike="noStrike">
                <a:solidFill>
                  <a:srgbClr val="ffffff"/>
                </a:solidFill>
                <a:latin typeface="Tahoma"/>
              </a:rPr>
              <a:t>алгоритма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Локални минимуми: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Површ грешки комплексне мреже је пуна брда и долина. Због нагиба градијента, мрежа може бити заробљена у локални минимум кад постоји много дубљи минимум у близини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Методи вероватноће могу помоћи да се избегне ове замка, али су они спори. Друга сугерирана могућност је да се повећа број скривених јединица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ahoma"/>
              </a:rPr>
              <a:t>Мане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back-propagation </a:t>
            </a:r>
            <a:r>
              <a:rPr b="1" lang="sr-CS" sz="4000" spc="-1" strike="noStrike">
                <a:solidFill>
                  <a:srgbClr val="ffffff"/>
                </a:solidFill>
                <a:latin typeface="Tahoma"/>
              </a:rPr>
              <a:t>алгоритм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1887480"/>
            <a:ext cx="82296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Tahoma"/>
              </a:rPr>
              <a:t>Апроксимација функциј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Вишеслојни перцептрон обучен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k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agation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алгоритмом може се посматрати као практично средство за извођење нелинеарног улазно-излазног мапирања генералне природ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ека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означава број улазних (изворних) чворова вишеслојног перцептрона, и нека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i="1" lang="sr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значава број неурона у излазном слоју мреже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јавља се следеће фундаментално питањ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Tahoma"/>
              </a:rPr>
              <a:t>Апроксимација функциј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ffffff"/>
                </a:solidFill>
                <a:latin typeface="Tahoma"/>
              </a:rPr>
              <a:t>Који је минимални број скривених слојева вишеслојног перцептрона са улазно-излазним мапирањем који пружа приближну реализацију било ког непрекидног мапирањ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ffffff"/>
                </a:solidFill>
                <a:uFillTx/>
                <a:latin typeface="Tahoma"/>
              </a:rPr>
              <a:t>Универзална теорема апроксимациј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ffffff"/>
                </a:solidFill>
                <a:latin typeface="Tahoma"/>
              </a:rPr>
              <a:t>Нека је       неконстантна, ограничена и монотоно растућа непрекидна функција. Тако да можемо да дефинишем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ffffff"/>
                </a:solidFill>
                <a:latin typeface="Tahoma"/>
              </a:rPr>
              <a:t>као приближну реализацију функције , тако да важи да је: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          -            &lt;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ffffff"/>
                </a:solidFill>
                <a:latin typeface="Tahoma"/>
              </a:rPr>
              <a:t>за свако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438280" y="1981080"/>
                <a:ext cx="5335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600200" y="4114800"/>
                <a:ext cx="5334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ϕ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952880" y="5410080"/>
                <a:ext cx="10573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477120" y="5410080"/>
                <a:ext cx="12952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8305920" y="5410080"/>
                <a:ext cx="3301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438280" y="5867280"/>
                <a:ext cx="2514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</m:d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"/>
                        <m:endChr m:val="}"/>
                      </m:dPr>
                    </m:d>
                    <m:r>
                      <m:t xml:space="preserve">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ffffff"/>
                </a:solidFill>
                <a:uFillTx/>
                <a:latin typeface="Tahoma"/>
              </a:rPr>
              <a:t>Универзална теорема апроксимациј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ва теорема је директно примењива на вишеслојне перцептроне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злаз вишеслојног перцептрона описан као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Мрежа има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улазних чворова и један скривени слој који се састоји од М неурона; улази су означени с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кривени неурон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ма синаптичк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тежин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и ниво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злаз мреже је линеарна комбинација излаза скривених неурона где су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ефинишући коефицијенти ове комбинациј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219320" y="3733920"/>
                <a:ext cx="16761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315200" y="4114800"/>
                <a:ext cx="152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209680" y="44956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029200" y="5257800"/>
                <a:ext cx="15238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Tahoma"/>
              </a:rPr>
              <a:t>Пример коришћења 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feed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forward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4000" spc="-1" strike="noStrike">
                <a:solidFill>
                  <a:srgbClr val="ffffff"/>
                </a:solidFill>
                <a:latin typeface="Tahoma"/>
              </a:rPr>
              <a:t>                    мреж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ed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ward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мрежа може да се корист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за апроксимацију функција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ретпоставимо да имамо систем (на пример неки хемијски процес или неки финансијски промет) за који желимо да знамо одређене карактеристике. Улаз система представља дводимензионални вектор     а излаз једнодимензионални вектор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i="1" lang="sr-C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334120" y="4648320"/>
                <a:ext cx="3664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ffffff"/>
                </a:solidFill>
                <a:uFillTx/>
                <a:latin typeface="Tahoma"/>
              </a:rPr>
              <a:t>Универзална теорема апроксимациј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Једначи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оја је темељ теореме, једноставно генерализује апроксимације коначним Фуријеовим редовима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 суштини, теорема каже да је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један скривени чвор сувишан вишеслојном перцептрону за рачунање униформне       апроксимације за дат тренинг скуп представљен скупом улаза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и жељени излаз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(                )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143000" y="2590920"/>
                <a:ext cx="6248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ϕ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743200" y="5334120"/>
                <a:ext cx="2635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876920" y="5715000"/>
                <a:ext cx="1371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133720" y="5943600"/>
                <a:ext cx="12189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Back-propagation </a:t>
            </a:r>
            <a:r>
              <a:rPr b="1" lang="sr-CS" sz="4000" spc="-1" strike="noStrike">
                <a:solidFill>
                  <a:srgbClr val="ffffff"/>
                </a:solidFill>
                <a:latin typeface="Tahoma"/>
              </a:rPr>
              <a:t>и разли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k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agation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је специфична техника за имплементацију нагиба градијента у тежински простор вишеслојн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edforward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мреже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сновна идеја технике је да ефикасно израчуна парцијалне изводе функције апроксимациј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) реализоване мрежом, уз поштовање свих елемената подесивог тежинског вектора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за дату вредност улазног вектора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Back-propagation </a:t>
            </a:r>
            <a:r>
              <a:rPr b="1" lang="sr-CS" sz="4000" spc="-1" strike="noStrike">
                <a:solidFill>
                  <a:srgbClr val="ffffff"/>
                </a:solidFill>
                <a:latin typeface="Tahoma"/>
              </a:rPr>
              <a:t>и разли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рви документовани опис употребе оваквог приступа за ефикасну процену градијента је дао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rbos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(1974)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разматрајмо вишеслојни перцептрон са улазним слојем од </a:t>
            </a:r>
            <a:r>
              <a:rPr b="0" i="1" lang="sr-CS" sz="28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чворова, 2 скривена слоја и једним излазним неуроном (као на слици)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Елементи тежинског вектор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су одређени слојем (почев од првог скривеног слоја), онда неуронима у слоју, па затим бројем синапсе на неурону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Back-propagation </a:t>
            </a:r>
            <a:r>
              <a:rPr b="1" lang="sr-CS" sz="4000" spc="-1" strike="noStrike">
                <a:solidFill>
                  <a:srgbClr val="ffffff"/>
                </a:solidFill>
                <a:latin typeface="Tahoma"/>
              </a:rPr>
              <a:t>и разли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Back-propagation </a:t>
            </a:r>
            <a:r>
              <a:rPr b="1" lang="sr-CS" sz="4000" spc="-1" strike="noStrike">
                <a:solidFill>
                  <a:srgbClr val="ffffff"/>
                </a:solidFill>
                <a:latin typeface="Tahoma"/>
              </a:rPr>
              <a:t>и разли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ека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значава синаптичку тежину од неурона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i="1" lang="sr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до неурона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j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у слоју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За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i="1" lang="sr-CS" sz="2800" spc="-1" strike="noStrike">
                <a:solidFill>
                  <a:srgbClr val="ffffff"/>
                </a:solidFill>
                <a:latin typeface="Tahoma"/>
              </a:rPr>
              <a:t>=1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(први скривени слој) индекс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i="1" lang="sr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е односи на изворни чвор пре него на неурон. За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i="1" lang="sr-CS" sz="2800" spc="-1" strike="noStrike">
                <a:solidFill>
                  <a:srgbClr val="ffffff"/>
                </a:solidFill>
                <a:latin typeface="Tahoma"/>
              </a:rPr>
              <a:t>=3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(излазни слој на слици) имамо </a:t>
            </a:r>
            <a:r>
              <a:rPr b="0" i="1" lang="sr-CS" sz="2800" spc="-1" strike="noStrike">
                <a:solidFill>
                  <a:srgbClr val="ffffff"/>
                </a:solidFill>
                <a:latin typeface="Tahoma"/>
              </a:rPr>
              <a:t>ј=1.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Желимо да оценимо изводе функциј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) поштујући све елементе тежинског вектора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, за улазни вектор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1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2,…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p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828800" y="1905120"/>
                <a:ext cx="6858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Back-propagation </a:t>
            </a:r>
            <a:r>
              <a:rPr b="1" lang="sr-CS" sz="4000" spc="-1" strike="noStrike">
                <a:solidFill>
                  <a:srgbClr val="ffffff"/>
                </a:solidFill>
                <a:latin typeface="Tahoma"/>
              </a:rPr>
              <a:t>и разли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Вишеслојни перцептрон са фигуре на слици има параметре: </a:t>
            </a:r>
            <a:r>
              <a:rPr b="0" i="1" lang="sr-CS" sz="2800" spc="-1" strike="noStrike">
                <a:solidFill>
                  <a:srgbClr val="ffffff"/>
                </a:solidFill>
                <a:latin typeface="Tahoma"/>
              </a:rPr>
              <a:t>архитектуру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А (дискретан параметар) и тежински вектор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(састављен од непрекидних елемената). Нека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значава онај део архитектуре који се протеже од улазног слоја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i="1" lang="sr-CS" sz="2800" spc="-1" strike="noStrike">
                <a:solidFill>
                  <a:srgbClr val="ffffff"/>
                </a:solidFill>
                <a:latin typeface="Tahoma"/>
              </a:rPr>
              <a:t>=0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) до чвора </a:t>
            </a:r>
            <a:r>
              <a:rPr b="0" i="1" lang="sr-CS" sz="2800" spc="-1" strike="noStrike">
                <a:solidFill>
                  <a:srgbClr val="ffffff"/>
                </a:solidFill>
                <a:latin typeface="Tahoma"/>
              </a:rPr>
              <a:t>ј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у слоју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i="1" lang="sr-CS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1,2,3. Следи да можемо писа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)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где је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функција активације, уз претпоставку да она има сигмоидалну форму дату раније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705720" y="3124080"/>
                <a:ext cx="3808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267080" y="4724280"/>
                <a:ext cx="9144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600200" y="5181480"/>
                <a:ext cx="4129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Back-propagation </a:t>
            </a:r>
            <a:r>
              <a:rPr b="1" lang="sr-CS" sz="4000" spc="-1" strike="noStrike">
                <a:solidFill>
                  <a:srgbClr val="ffffff"/>
                </a:solidFill>
                <a:latin typeface="Tahoma"/>
              </a:rPr>
              <a:t>и разли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Тако, прилагођавајући раније поменуте једначине оваквој употреби, долазимо до следећих резултата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arinen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. (1992)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048120" y="3657600"/>
                <a:ext cx="2895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;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'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ϕ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048120" y="4419720"/>
                <a:ext cx="35049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;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'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ϕ</m:t>
                    </m:r>
                    <m:r>
                      <m:t xml:space="preserve">'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ϕ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048120" y="5257800"/>
                <a:ext cx="5029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;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'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ϕ</m:t>
                    </m:r>
                    <m:r>
                      <m:t xml:space="preserve">'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ϕ</m:t>
                    </m:r>
                    <m:r>
                      <m:t xml:space="preserve">'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ahoma"/>
              </a:rPr>
              <a:t>Погодности и ограничења в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ck</a:t>
            </a:r>
            <a:r>
              <a:rPr b="1" lang="sr-CS" sz="4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ropagation</a:t>
            </a:r>
            <a:r>
              <a:rPr b="1" lang="sr-CS" sz="4000" spc="-1" strike="noStrike">
                <a:solidFill>
                  <a:srgbClr val="ffffff"/>
                </a:solidFill>
                <a:latin typeface="Tahoma"/>
              </a:rPr>
              <a:t> учењ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k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agation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алгоритам се наметнуо као најпопуларнији алгоритам за надгледано тренирање вишеслојних перцептрона. У основи, то је градијентна (изводна) техника, а не техника оптимизације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k-propagation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има 2 основне особин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Једноставан је за локално рачунањ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зводи стохастички нагиб градијента у тежинском простору (з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tern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tern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ажурирање синаптичких тежин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 u="sng">
                <a:solidFill>
                  <a:srgbClr val="ffffff"/>
                </a:solidFill>
                <a:uFillTx/>
                <a:latin typeface="Tahoma"/>
              </a:rPr>
              <a:t>Повезанос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k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agation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алгоритам је пример </a:t>
            </a:r>
            <a:r>
              <a:rPr b="0" i="1" lang="sr-CS" sz="2800" spc="-1" strike="noStrike">
                <a:solidFill>
                  <a:srgbClr val="ffffff"/>
                </a:solidFill>
                <a:latin typeface="Tahoma"/>
              </a:rPr>
              <a:t>парадигме повезаности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која се ослања на локална израчунавања да би открила способности процесирања информација неуронске мреже. Овај облик рачунског ограничења се назива </a:t>
            </a:r>
            <a:r>
              <a:rPr b="0" i="1" lang="sr-CS" sz="2800" spc="-1" strike="noStrike">
                <a:solidFill>
                  <a:srgbClr val="ffffff"/>
                </a:solidFill>
                <a:latin typeface="Tahoma"/>
              </a:rPr>
              <a:t>ограничење локалности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, у смислу да је рачунање које изводи неурон искључиво под утицајем оних неурона који су у физичком контакту са њим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 u="sng">
                <a:solidFill>
                  <a:srgbClr val="ffffff"/>
                </a:solidFill>
                <a:uFillTx/>
                <a:latin typeface="Tahoma"/>
              </a:rPr>
              <a:t>Повезанос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потреба локалних рачунања при дизајнирању вештачких неуронских мрежа се обично оправдава са 3 основна разлог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Вешташке неуронске мреже које изводе локална рачунања се обично користе као метафоре за биолошке неуронске мреж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потреба локалних рачунања дозвољава деградацију перформанси због хардверских грешки,  па  је зато и дизајн мреже толерантан на греш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Локална рачунања фаворизују употребу паралелних архитектура као ефикасан метод за имплементациу вештачке неуронске мреж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Tahoma"/>
              </a:rPr>
              <a:t>Пример коришћења 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feed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forward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4000" spc="-1" strike="noStrike">
                <a:solidFill>
                  <a:srgbClr val="ffffff"/>
                </a:solidFill>
                <a:latin typeface="Tahoma"/>
              </a:rPr>
              <a:t>                   мреж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Ако желимо да изразимо релацију        из примера 80             као што је приказано на слици (горе лево)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ed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ward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мрежа је програмирана са 2 улаза, 10 скривених јединица са збирном активационом функцијом и једном излазном јединицом са линеарном активационом функциј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7467480" y="2057400"/>
                <a:ext cx="12193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χ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886200" y="2438280"/>
                <a:ext cx="12193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 u="sng">
                <a:solidFill>
                  <a:srgbClr val="ffffff"/>
                </a:solidFill>
                <a:uFillTx/>
                <a:latin typeface="Tahoma"/>
              </a:rPr>
              <a:t>Повезанос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пецијално, 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k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agation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алгоритам је успешно имплементиран на паралелним рачунарима многих истраживача, 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LSI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 архитектуре су развијене за хардверску реализацију вишеслојних перцептрона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Што се тиче тачке 1, у вези са биолошким коректностима 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k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agation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учења, она је била озбиљно доведена у питање на следећим пољим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 u="sng">
                <a:solidFill>
                  <a:srgbClr val="ffffff"/>
                </a:solidFill>
                <a:uFillTx/>
                <a:latin typeface="Tahoma"/>
              </a:rPr>
              <a:t>Повезанос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Реципрочне синаптичке везе између неурона вишеслојног перцептрона могу имати тежине које су екситујуће или инхибирајуће. У правом нервном систему, ипак, неурони су обично једно или друго. Ово је једна од најозбиљнијих претпоставки начињена у моделу неуронских мреж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 вишеслојном перцептрону, хормонске или друге врсте глобалних комуникација се игноришу. У правом нервном систему, ове врсте глобалних комуникација су критичне за функције поставки стања, као што су пажња и учењ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 u="sng">
                <a:solidFill>
                  <a:srgbClr val="ffffff"/>
                </a:solidFill>
                <a:uFillTx/>
                <a:latin typeface="Tahoma"/>
              </a:rPr>
              <a:t>Повезанос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3. При в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k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pagation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учењу, синаптичка тежина је модификована пресинаптичком активношћу и сигналом грешке, независно од постсинаптичке активности. Постоје докази из неуробиологије који сугерирају да није так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4. У неуробиолошком смислу, имплементација в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k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pagation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учења захтева брзу трансмисију информација уназад дуж аксона. Испоставља се да је мало вероватно да се оваква операција заиста збива у мозг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ck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pagation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учење имплицира постојање “учитеља“, који би, у контексту мозга, вероватно био неки други скуп неурона са новим особинама. Постојање оваквих неурона је такоће биолошки мало вероват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 u="sng">
                <a:solidFill>
                  <a:srgbClr val="ffffff"/>
                </a:solidFill>
                <a:uFillTx/>
                <a:latin typeface="Tahoma"/>
              </a:rPr>
              <a:t>Повезанос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Ипак, ови неуробиолошки недостаци не умањују инжењерски значај 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k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pagation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учења као алата за процесирање информација, што је доказано његовим успешним применама на бројним и веома различитим пољима, укључујући и симулацију неуробиолошких феном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 u="sng">
                <a:solidFill>
                  <a:srgbClr val="ffffff"/>
                </a:solidFill>
                <a:uFillTx/>
                <a:latin typeface="Tahoma"/>
              </a:rPr>
              <a:t>Скривене јединиц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кривене јединице играју критичну улогу у операцији вишеслојних перцептрона са 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k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agation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учењем, тако што се понашају као детектори карактеристи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Један од најједноставнијих начина да се избегне потреба за спољним учитељем код 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k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agation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учења је да се научи </a:t>
            </a:r>
            <a:r>
              <a:rPr b="0" i="1" lang="sr-CS" sz="2800" spc="-1" strike="noStrike">
                <a:solidFill>
                  <a:srgbClr val="ffffff"/>
                </a:solidFill>
                <a:latin typeface="Tahoma"/>
              </a:rPr>
              <a:t>мапа индентитета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ад неким скупом улаза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Да би ово урадили, стављамо да су улазна и циљана шема скроз исте (као на слици)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 u="sng">
                <a:solidFill>
                  <a:srgbClr val="ffffff"/>
                </a:solidFill>
                <a:uFillTx/>
                <a:latin typeface="Tahoma"/>
              </a:rPr>
              <a:t>Скривене јединиц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остоје два интересантна аспекта ове операциј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Мрежа развија компактну репрезентацију (кодирање) свог окружењ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Репрезентација је научена на самоорганизујући начи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Реконструкција оригиналних података стављањем кодираних података у скривени слој илустровано је на слици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 u="sng">
                <a:solidFill>
                  <a:srgbClr val="ffffff"/>
                </a:solidFill>
                <a:uFillTx/>
                <a:latin typeface="Tahoma"/>
              </a:rPr>
              <a:t>Скривене јединиц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676520" y="1600200"/>
            <a:ext cx="5622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 u="sng">
                <a:solidFill>
                  <a:srgbClr val="ffffff"/>
                </a:solidFill>
                <a:uFillTx/>
                <a:latin typeface="Tahoma"/>
              </a:rPr>
              <a:t>Скривене јединиц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Вишеслојни перцептрон који ради на самоорганизујући начин (на слици), познат је као </a:t>
            </a:r>
            <a:r>
              <a:rPr b="0" i="1" lang="sr-CS" sz="2800" spc="-1" strike="noStrike">
                <a:solidFill>
                  <a:srgbClr val="ffffff"/>
                </a:solidFill>
                <a:latin typeface="Tahoma"/>
              </a:rPr>
              <a:t>аутоенкодер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0" i="1" lang="sr-CS" sz="2800" spc="-1" strike="noStrike">
                <a:solidFill>
                  <a:srgbClr val="ffffff"/>
                </a:solidFill>
                <a:latin typeface="Tahoma"/>
              </a:rPr>
              <a:t>аутоасоцијатор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Додатак пара скривених слојева, једног измећу улаза и репрезентационог (другог скривеног) слоја, и други између репрезентационог слоја и излаза, дозвољава аутоенкодеру да изврши нелинеарну репрезентацију подата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 u="sng">
                <a:solidFill>
                  <a:srgbClr val="ffffff"/>
                </a:solidFill>
                <a:uFillTx/>
                <a:latin typeface="Tahoma"/>
              </a:rPr>
              <a:t>Скривене јединиц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371600" y="1905120"/>
            <a:ext cx="6553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 u="sng">
                <a:solidFill>
                  <a:srgbClr val="ffffff"/>
                </a:solidFill>
                <a:uFillTx/>
                <a:latin typeface="Tahoma"/>
              </a:rPr>
              <a:t>Скривене јединиц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Тиме је потребно мање чворова у репрезентационом слоју, чиме се добија ефикаснија компресија података него у случају аутоенкодера са једним скривеним слој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Tahoma"/>
              </a:rPr>
              <a:t>Пример коришћења 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feed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forward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4000" spc="-1" strike="noStrike">
                <a:solidFill>
                  <a:srgbClr val="ffffff"/>
                </a:solidFill>
                <a:latin typeface="Tahoma"/>
              </a:rPr>
              <a:t>                   мреж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Можете се сами уверити како израчунавањ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може бити прилагођено за линеарну уместо за збирну активациону функцију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030320" y="2955960"/>
                <a:ext cx="47210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)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ffffff"/>
                </a:solidFill>
                <a:uFillTx/>
                <a:latin typeface="Tahoma"/>
              </a:rPr>
              <a:t>Универзална апроксимациј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Вишеслојни перцептор обучен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ck-propagation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алгоритмом манифестује се као угњеждена сигмоидална шема, која се у компактној форми за случај једног излаза може написати ка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1" lang="sr-CS" sz="3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276720" y="5105520"/>
                <a:ext cx="5105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j</m:t>
                            </m:r>
                          </m:sub>
                        </m:sSub>
                        <m:r>
                          <m:t xml:space="preserve">ϕ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</m:sSub>
                            <m:r>
                              <m:t xml:space="preserve">ϕ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ϕ</m:t>
                            </m:r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ffffff"/>
                </a:solidFill>
                <a:uFillTx/>
                <a:latin typeface="Tahoma"/>
              </a:rPr>
              <a:t>Универзална апроксимациј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Тежински вектор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означава комплетан сет синаптичких тежина уређених по слоју, затим неуронима у слоју, а онда бројем у неурону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вишеслојни перцептрон са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ck-propagation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учењем може да апроксимира било коју непрекидну функције више променљивих са било којим жељеним степеном тачности , јер има довољно слободних скривених неуро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нтуиција сугерира да би вишеслојна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edforward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мрежа са равним активационим функцијама требало да има излазне изводе функције који могу такође апроксимирати и изводе непознатих улазно-излазних мапирања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Tahoma"/>
              </a:rPr>
              <a:t>Пример коришћења 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feed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forward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4000" spc="-1" strike="noStrike">
                <a:solidFill>
                  <a:srgbClr val="ffffff"/>
                </a:solidFill>
                <a:latin typeface="Tahoma"/>
              </a:rPr>
              <a:t>                  мреж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Релација између     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је репрезентована од стране мреже као што је приказано на слици (горе десно), док је функција која генерише узорке учења дата на слици (доле лево)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Грешка апроксимације је приказана на слици (доле десно). Видимо да је грешка већа на ивицама региона у оквиру којих су узорци учења генерисани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0" y="0"/>
                <a:ext cx="15228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733920" y="1981080"/>
                <a:ext cx="304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ack-Propagation </a:t>
            </a:r>
            <a:r>
              <a:rPr b="0" lang="sr-CS" sz="4400" spc="-1" strike="noStrike">
                <a:solidFill>
                  <a:srgbClr val="ffffff"/>
                </a:solidFill>
                <a:latin typeface="Tahoma"/>
              </a:rPr>
              <a:t>алгорита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ahoma"/>
              </a:rPr>
              <a:t>Друге активационе функциј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Мада се збирне функције врло често користе, и друге функције се могу користити као активационе.  У неким случајевима ово води ка формули која је позната из традиционалне теорије апроксимације функциј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а пример, из Фуријеове анализе знамо да се свака периодична функција може представити као бесконачна сума синуса и косинус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352680" y="5562720"/>
                <a:ext cx="41148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ahoma"/>
              </a:rPr>
              <a:t>Друге активационе функциј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Ову формулу можемо да напишемо и као бесконачну суму сину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Где је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05120" y="3124080"/>
                <a:ext cx="46479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057400" y="5029200"/>
                <a:ext cx="21337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724280" y="5105520"/>
                <a:ext cx="2743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an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ahoma"/>
              </a:rPr>
              <a:t>Друге активационе функциј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во би могло да се види и као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ed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ward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мрежа са једном улазном јединицом з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, једном излазном јединицом з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) и скривеним јединицама са активационом функцијом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)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Фактор    одговара одступању излазне јединице, фактор   одговара тежини од скривене до излазне јединице, фазни фактор                       одговара одступању од скривених јединица и фактор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одговара тежинама између улаза и скривеног слој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133720" y="3733920"/>
                <a:ext cx="269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809880" y="4114800"/>
                <a:ext cx="270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8534520" y="4419720"/>
                <a:ext cx="323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9T14:37:04Z</dcterms:created>
  <dc:creator>Milenica</dc:creator>
  <dc:description/>
  <dc:language>en-US</dc:language>
  <cp:lastModifiedBy>miona</cp:lastModifiedBy>
  <dcterms:modified xsi:type="dcterms:W3CDTF">2005-12-01T14:28:57Z</dcterms:modified>
  <cp:revision>20</cp:revision>
  <dc:subject/>
  <dc:title>Неуронске мреже Back-Propagation алгоритам</dc:title>
</cp:coreProperties>
</file>