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C36-89EE-4304-BC26-1750AC9A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032-3E51-4382-8B02-56B27284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14F-3213-4C53-B453-500CB18D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A69-678B-4947-98F9-0A71D5E0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AE2-5ADF-4437-80B4-83162BEB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5F9-82F1-4690-A7A4-90DD958B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292-0D2C-4C76-BCC2-BB558CE6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6C6-8541-45EE-95F7-D5923C3D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EC3-3A71-4DBE-BF67-84A000C6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FE4-BF6E-4BFE-838A-81B96843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34B-6AC6-4ED6-B36D-4F60C60A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1FC-C3B8-4C14-B530-3773F38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4F00-5608-464A-AED2-79FED6162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120" y="76212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i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meida tak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pokazuju prednosti u nezavisnosti vel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 koraka za svaku t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u u m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njihovim algoritmima vrednosti parametara se uzimaju posle svakog uzorka 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92504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liko su dobre v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loj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-forward mr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ezultuj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g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 ut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am ucenj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oj iteracija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o od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je koliko je dobro g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 prilikom 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a minimizov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j uzoraka ucenja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o od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je koliko dobro uzorci ucenja prezentuju konkretnu funkci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j sakrivenih jedinica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o od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je “izr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nu snagu” mreze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“glatke” funkcije samo nekoliko sakrivenih jedinica je potrebno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ko prot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funkcije zahteva se v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akrivenih jedi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g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 za uzorke 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a je definisana kao stopa g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 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5410440" cy="114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236232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j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zlika izm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jenje izlazne vrednost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enutne vrednosti m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izlaza za primere 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14600" y="3352680"/>
            <a:ext cx="3429000" cy="990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343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o stopu g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 testa kao pr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 g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 skupa testov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52480" y="5105520"/>
            <a:ext cx="5257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kat broja primera za u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458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772320" cy="3695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4952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 opseg g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 test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ime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za uče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 dat u funkciji od ve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 skup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za obuk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8991720" cy="3733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69960" y="3902040"/>
            <a:ext cx="7711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04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ekat broja sakrivenih jedi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029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ekat broja sakrivenih jedinica na performanse m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934400" cy="3771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5105520"/>
            <a:ext cx="754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495680"/>
            <a:ext cx="693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7242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 opseg g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 test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h primera je dat u funkciji od vel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e skup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za obučav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likacij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jnowsk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senberg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87) - sistem koji konvertuj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pani tekst na engleskom u visoko inteligentni go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ma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jowsk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88) - “feed-forward”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 jednim slojem sakrivenih jedi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 nepoznatih funkcija izm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ulazn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zlaznih signala prezentacije prim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i algoritmi predstavljaju pobol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j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dgradnju BackPropagation algori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i  BackPropagation algorit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ena primitivnog metoda najstrmiji p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ng. steepest descent) minimizacionim metodom konjugovanih gradijenta(eng. conjugate gradient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a se sastoji u tome da umesto da pratimo gradijent na svako koraku,pravimo skup od n pravaca,gde su svi m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bno konjugov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postavimo da je funkcija koja treba da se minimizuje aproksimirana Tejlorovim red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6858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 oznacava transpon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723888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58128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simetricna pozitivna t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d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 matrica. Gradijent od f je od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342900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49568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v da promena x rezultuje promenom gradijenta k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600200" y="5257800"/>
            <a:ext cx="35812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6781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a pretpostavimo da je f minimizovano d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vc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tacke gde je gradijent funkcije f ,     –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normalan n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j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28191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14400" y="5105520"/>
            <a:ext cx="5257800" cy="83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0400" y="2590920"/>
            <a:ext cx="8149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vi pravac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t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.Da bismo bili sigurni da kret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 kvari minimizaciju duz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trazimo da gradij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f ostane norma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8769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ovanjem ova dva dobij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600200" y="3733920"/>
            <a:ext cx="27432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685800"/>
            <a:ext cx="8229960" cy="9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 minimizaciju po nultom pravcu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uzet kao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∆f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ji rezultuje novom tackom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Za i≥0 pravci se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avaju ka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3733560" cy="83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3880" y="1523880"/>
            <a:ext cx="76320" cy="7632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1447920"/>
            <a:ext cx="76320" cy="38088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380880" cy="38088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59092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de j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zet tako da v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62520" y="2514600"/>
            <a:ext cx="2133360" cy="65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7280" y="3429000"/>
            <a:ext cx="50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kcesivni  normalni gradij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3809880"/>
            <a:ext cx="754380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4800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762120" y="5257800"/>
            <a:ext cx="7772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23960" y="762120"/>
            <a:ext cx="7696080" cy="4419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54100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oro umanjenje konjugovano-gradijentnim metodom u ne-kvadratnom si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ka pobol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brzanje algoritma) su zasnovana na nezavisnosti parametara ucenja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514600"/>
            <a:ext cx="725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75248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n den Boomgaard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meeulders pokazuju da za feed-forward mreze bez sakrivenih jedinica postoji jedna inkrementalna procedura za nalazenje optimalne tezine matrice W,koja se postize korigovanjem t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e 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696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22:21Z</dcterms:created>
  <dc:creator>Zaklina</dc:creator>
  <dc:description/>
  <dc:language>en-US</dc:language>
  <cp:lastModifiedBy>miona</cp:lastModifiedBy>
  <dcterms:modified xsi:type="dcterms:W3CDTF">2005-12-01T14:15:27Z</dcterms:modified>
  <cp:revision>14</cp:revision>
  <dc:subject/>
  <dc:title>ADVANCED ALGORITHMS</dc:title>
</cp:coreProperties>
</file>