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4A50-DE05-4798-BE87-C4E1BFAA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1D7C-77CD-499E-AB06-4CB48569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AFC-A238-425A-A9B9-23EA6694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2F4-482D-4F2C-A192-1081B10E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DA4-9EEF-45D1-BE99-985A98D0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3F8-20F4-43EF-97F1-107E148C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0648-A5F0-4A3D-AC24-DE5CEACD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FDB-6DB2-40C0-892D-9272C583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73C1-2C96-4A4F-8499-52BF75AD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21D9-9994-493A-B877-0862846E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ADA-9121-468B-95A8-A211F69E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97A1-01D1-4B77-8C58-941FA5DC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85E3-3BE3-4628-9553-F085DCFC7C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e500"/>
                </a:solidFill>
                <a:latin typeface="Times YU"/>
              </a:rPr>
              <a:t>GRAIL: </a:t>
            </a:r>
            <a:r>
              <a:rPr b="1" lang="en-US" sz="4000" spc="-1" strike="noStrike">
                <a:solidFill>
                  <a:srgbClr val="f0e500"/>
                </a:solidFill>
                <a:latin typeface="Times YU"/>
              </a:rPr>
              <a:t>Multi-agentska neuronska mreža</a:t>
            </a:r>
            <a:br>
              <a:rPr sz="4000"/>
            </a:br>
            <a:r>
              <a:rPr b="1" lang="en-US" sz="4000" spc="-1" strike="noStrike">
                <a:solidFill>
                  <a:srgbClr val="f0e500"/>
                </a:solidFill>
                <a:latin typeface="Times YU"/>
              </a:rPr>
              <a:t>Sistem za identifikaciju gena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3885840"/>
            <a:ext cx="763272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Times YU"/>
              </a:rPr>
              <a:t>G – G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Times YU"/>
              </a:rPr>
              <a:t>R – Recognition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Times YU"/>
              </a:rPr>
              <a:t>A –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Times YU"/>
              </a:rPr>
              <a:t>I –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Times YU"/>
              </a:rPr>
              <a:t>L - 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0e500"/>
                </a:solidFill>
                <a:latin typeface="Times YU"/>
              </a:rPr>
              <a:t>           </a:t>
            </a:r>
            <a:r>
              <a:rPr b="1" i="1" lang="en-US" sz="2800" spc="-1" strike="noStrike">
                <a:solidFill>
                  <a:srgbClr val="f0e500"/>
                </a:solidFill>
                <a:latin typeface="Times YU"/>
              </a:rPr>
              <a:t>Podela DNK niza na eksone i intron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-Tipičan niz DNK se može sastojati od nekoliko desetina, do nekoliko miliona azotnih baza (nukleotida)</a:t>
            </a:r>
            <a:br>
              <a:rPr sz="24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-Gen se može posmatrati kao niz pomešanih </a:t>
            </a:r>
            <a:r>
              <a:rPr b="1" i="1" lang="en-US" sz="2400" spc="-1" strike="noStrike">
                <a:solidFill>
                  <a:srgbClr val="f0e500"/>
                </a:solidFill>
                <a:latin typeface="Times YU"/>
              </a:rPr>
              <a:t>eksona</a:t>
            </a: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 i </a:t>
            </a:r>
            <a:r>
              <a:rPr b="1" i="1" lang="en-US" sz="2400" spc="-1" strike="noStrike">
                <a:solidFill>
                  <a:srgbClr val="f0e500"/>
                </a:solidFill>
                <a:latin typeface="Times YU"/>
              </a:rPr>
              <a:t>introna</a:t>
            </a:r>
            <a:br>
              <a:rPr sz="24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-</a:t>
            </a:r>
            <a:r>
              <a:rPr b="1" i="1" lang="en-US" sz="2400" spc="-1" strike="noStrike">
                <a:solidFill>
                  <a:srgbClr val="f0e500"/>
                </a:solidFill>
                <a:latin typeface="Times YU"/>
              </a:rPr>
              <a:t>Eksoni</a:t>
            </a: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 predstavljaju regione kodiranja</a:t>
            </a:r>
            <a:br>
              <a:rPr sz="24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-</a:t>
            </a:r>
            <a:r>
              <a:rPr b="1" i="1" lang="en-US" sz="2400" spc="-1" strike="noStrike">
                <a:solidFill>
                  <a:srgbClr val="f0e500"/>
                </a:solidFill>
                <a:latin typeface="Times YU"/>
              </a:rPr>
              <a:t>Introni </a:t>
            </a: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 predstavljaju regione nekodiranja (ne nose informaciju o sintezi AK) i razdvajaju eksone</a:t>
            </a:r>
            <a:br>
              <a:rPr sz="24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-Cilj prepoznavanja gena je da se prepoznaju eksoni i da se grupišu oni eksoni koji se mogu spojiti (povezati) da bi oformili gen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- Na donjoj slici je šematski prikaz dela DNK niza sastavljenog od dva gena. Crne oblasti predstavljaju eksone, a bele introne. Na slici se takođe vide i granice spajanja introna dva gena od kojih jedan pruža akceptorsku, a drugi donorsku vezu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2997000"/>
            <a:ext cx="822960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3710160"/>
            <a:ext cx="820728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0e500"/>
              </a:buClr>
              <a:buFont typeface="Times YU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Da bi smo odredili verovatnoću da je dati segment DNK ekson, potrebno je da izmerimo potencijal kodiranja regiona i da ocenimo jačinu graničnih signala (jačinu potencijalnog čvora  spajanja koji ograničava region)</a:t>
            </a:r>
            <a:br>
              <a:rPr sz="24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- Za merenje potencijala kodiranja postoji više modela, dok su u GRAIL-u korišćena dva:</a:t>
            </a:r>
            <a:br>
              <a:rPr sz="24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         1. šestostruki model prvanstva (prioriteta)</a:t>
            </a:r>
            <a:br>
              <a:rPr sz="24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         2. petorazredni-nehomogeni Markov lančani model</a:t>
            </a:r>
            <a:br>
              <a:rPr sz="24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-Mreža se obučava na osnovu empirijskih podataka pomenutih veličina, da bi efikasno procenila mogućnost svakog segmenta (kandidata) niza da se proglasi stvarnim eksonom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                 </a:t>
            </a:r>
            <a:r>
              <a:rPr b="1" i="1" lang="en-US" sz="2800" spc="-1" strike="noStrike">
                <a:solidFill>
                  <a:srgbClr val="f0e500"/>
                </a:solidFill>
                <a:latin typeface="Times YU"/>
              </a:rPr>
              <a:t>GRAIL algoritam za prepoznavanje gena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- Modelovanje gena obuhvata odabiranje niza najverovatnijih kandidata za eksone koji se mogu upletati jedan s’drugim kako bi oformili gen, tačnije direktnu informaciju na osnovu koje će biti formiran protein</a:t>
            </a:r>
            <a:br>
              <a:rPr sz="24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-GRAIL algoritam  za prepoznavanje gena se može opisati u sledeća 4 koraka:</a:t>
            </a:r>
            <a:br>
              <a:rPr sz="24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        1)   </a:t>
            </a:r>
            <a:r>
              <a:rPr b="1" i="1" lang="en-US" sz="2400" spc="-1" strike="noStrike">
                <a:solidFill>
                  <a:srgbClr val="f0e500"/>
                </a:solidFill>
                <a:latin typeface="Times YU"/>
              </a:rPr>
              <a:t>Generisanje kandidata</a:t>
            </a:r>
            <a:br>
              <a:rPr sz="24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        2)   </a:t>
            </a:r>
            <a:r>
              <a:rPr b="1" i="1" lang="en-US" sz="2400" spc="-1" strike="noStrike">
                <a:solidFill>
                  <a:srgbClr val="f0e500"/>
                </a:solidFill>
                <a:latin typeface="Times YU"/>
              </a:rPr>
              <a:t>Eliminacija manje verovatnih kandidata</a:t>
            </a:r>
            <a:br>
              <a:rPr sz="24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        3)   </a:t>
            </a:r>
            <a:r>
              <a:rPr b="1" i="1" lang="en-US" sz="2400" spc="-1" strike="noStrike">
                <a:solidFill>
                  <a:srgbClr val="f0e500"/>
                </a:solidFill>
                <a:latin typeface="Times YU"/>
              </a:rPr>
              <a:t>Procenjivanje kandidata</a:t>
            </a:r>
            <a:br>
              <a:rPr sz="24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        4)   </a:t>
            </a:r>
            <a:r>
              <a:rPr b="1" i="1" lang="en-US" sz="2400" spc="-1" strike="noStrike">
                <a:solidFill>
                  <a:srgbClr val="f0e500"/>
                </a:solidFill>
                <a:latin typeface="Times YU"/>
              </a:rPr>
              <a:t>Modelovanje gena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55520" y="259920"/>
            <a:ext cx="9299520" cy="639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0e500"/>
                </a:solidFill>
                <a:latin typeface="Times YU"/>
              </a:rPr>
              <a:t>                                   </a:t>
            </a:r>
            <a:r>
              <a:rPr b="1" i="1" lang="en-US" sz="2800" spc="-1" strike="noStrike">
                <a:solidFill>
                  <a:srgbClr val="f0e500"/>
                </a:solidFill>
                <a:latin typeface="Times YU"/>
              </a:rPr>
              <a:t>Generisanje kandidata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- Ovaj korak obuhvata algoritam kojim se najpre izdvajaju svi mogući eksoni na neki od ranije navedenih načina. Ovim je formiran početni skup, ujedno i najobimniji, za dalja selektivna odabiranja u narednim fazama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            </a:t>
            </a:r>
            <a:r>
              <a:rPr b="1" i="1" lang="en-US" sz="2800" spc="-1" strike="noStrike">
                <a:solidFill>
                  <a:srgbClr val="f0e500"/>
                </a:solidFill>
                <a:latin typeface="Times YU"/>
              </a:rPr>
              <a:t>Eliminacija manje verovatnih kandidata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- Odstranjivanje beznačajnih  kandidata vrši se na osnovu niza heurističkih pravila, od kojih svako pravilo definiše neki od potrebnih uslova koji potencijalni ekson mora da zadovolji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155520" y="260280"/>
            <a:ext cx="9299520" cy="63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480" y="476280"/>
            <a:ext cx="9299520" cy="63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0e500"/>
                </a:solidFill>
                <a:latin typeface="Times YU"/>
              </a:rPr>
              <a:t>                       </a:t>
            </a:r>
            <a:r>
              <a:rPr b="1" i="1" lang="en-US" sz="2800" spc="-1" strike="noStrike">
                <a:solidFill>
                  <a:srgbClr val="f0e500"/>
                </a:solidFill>
                <a:latin typeface="Times YU"/>
              </a:rPr>
              <a:t>Procenjivanje kandidata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- Kandidati koji su prošli pravila, se dalje ocenjuju od strane predhodno obučene neuronske mrež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                                 </a:t>
            </a:r>
            <a:r>
              <a:rPr b="1" i="1" lang="en-US" sz="2800" spc="-1" strike="noStrike">
                <a:solidFill>
                  <a:srgbClr val="f0e500"/>
                </a:solidFill>
                <a:latin typeface="Times YU"/>
              </a:rPr>
              <a:t>Modeliranje gena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- Algoritam odabira iz predhodno redukovanog skupa kandidata, niz kandidata koji su najviše ocenjeni u koraku 3) i spaja susedne formirajući model gena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0e500"/>
                </a:solidFill>
                <a:latin typeface="Times YU"/>
              </a:rPr>
              <a:t>Performanse GRAIL sistema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- Performanse multi-agent sistema, kao što je GRAIL, zavise od toga, kako smo informacije iz različitih izvora kombinovali. Preko desetak pokazatelja koji ukazuju na eksone i mnoštvo korekcionih faktora je primenjeno u GRAIL procesu. Odnosi izmedju svih raspoloživih veličina su nekompletni i krajnje nelinearni. Za zadnjih nekoliko godina treniranja mreže empirijskim podacima, GRAIL je uspeo da uhvati mnoge odnose i pohvali se rezultatima u narednoj tabeli  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9144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0e500"/>
                </a:solidFill>
                <a:latin typeface="Times YU"/>
              </a:rPr>
              <a:t>                                 </a:t>
            </a:r>
            <a:r>
              <a:rPr b="1" i="1" lang="en-US" sz="2800" spc="-1" strike="noStrike">
                <a:solidFill>
                  <a:srgbClr val="f0e500"/>
                </a:solidFill>
                <a:latin typeface="Times YU"/>
              </a:rPr>
              <a:t>Završna reč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- Korišćenjem neuronske mreže, kao osnovnog načina za kombinovanje informacija iz različitih izvora, mi smo napravili fleksibilan radni prostor koji je otvoren za nove informacije i saznanja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Kodon</a:t>
            </a:r>
            <a:r>
              <a:rPr b="1" i="1" lang="en-US" sz="2400" spc="-1" strike="noStrike">
                <a:solidFill>
                  <a:srgbClr val="f0e500"/>
                </a:solidFill>
                <a:latin typeface="Times YU"/>
              </a:rPr>
              <a:t> – niz od tri nukleotida koji odgovara jednoj amino kiselini; nosi uputstvo za stvaranje svih živih organizama</a:t>
            </a:r>
            <a:br>
              <a:rPr sz="2400"/>
            </a:b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0e500"/>
              </a:buClr>
              <a:buFont typeface="Times YU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Neuronske mreže predstavljaju tipičan primer interdisciplinarne oblasti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- Oblast koju danas poznajemo kao neuronske mreže, nastala je kao rezultat spoja nekoliko veoma različitih pravaca istraživanja: obrade signala, fizike, neurobiologije, molekularne biologije, genetičkog inženjerstva…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- Od biotehnologije i genetičkog inženjeringa, očekuje se da bitno povećaju i pojeftine proizvodnju hrane. Genetički inženjering utvrđuje i strukturu određenih delova DNK, što omogućuje dijagnozu nekih bolesti pre nego što se manifestuju. Ono omogućava kombinovanje gena i željenih osobina uz stvaranje novih genotipa, koji dosad nisu postojali u prirodi.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0e500"/>
                </a:solidFill>
                <a:latin typeface="Times YU"/>
              </a:rPr>
              <a:t>Predmet i značaj izučavanja molekularne biologije</a:t>
            </a:r>
            <a:br>
              <a:rPr sz="2400"/>
            </a:br>
            <a:r>
              <a:rPr b="0" lang="en-US" sz="2400" spc="-1" strike="noStrike">
                <a:solidFill>
                  <a:srgbClr val="f0e500"/>
                </a:solidFill>
                <a:latin typeface="Times YU"/>
              </a:rPr>
              <a:t>           Molekularna biologija (ili biohemijska genetika) objašnjava osnovne procese života, njihovu prirodu i povezanost. U živim sistemima, prirodu i specifičnost svakog hemijskog procesa određuju geni, pa je zadatak molekularne biologije da tumačenjem regulacije i ekspresije gena objasni procese metabolizma. Molekularna biologija treba da utvrdi početne procese razvića osobina na molekularnom, biohemijskom nivou, tj. iz čega su geni sastavljeni, kako se reprodukuju i koji su primarni produkti funkcije gena. </a:t>
            </a:r>
            <a:br>
              <a:rPr sz="2400"/>
            </a:br>
            <a:r>
              <a:rPr b="0" lang="en-US" sz="2400" spc="-1" strike="noStrike">
                <a:solidFill>
                  <a:srgbClr val="f0e500"/>
                </a:solidFill>
                <a:latin typeface="Times YU"/>
              </a:rPr>
              <a:t>          Danas znamo da su nosioci i realizatori razvića osobina nukleinske kiseline i proteini. Naslednu materiju čini dezoksiribonukleinska kiselina (DNK). Ovaj molekul se može nazvati naslednom supstancom zato što ima:</a:t>
            </a:r>
            <a:br>
              <a:rPr sz="2400"/>
            </a:br>
            <a:r>
              <a:rPr b="0" lang="en-US" sz="2400" spc="-1" strike="noStrike">
                <a:solidFill>
                  <a:srgbClr val="f0e500"/>
                </a:solidFill>
                <a:latin typeface="Times YU"/>
              </a:rPr>
              <a:t>      1. sposobnost samoreprodukcije </a:t>
            </a:r>
            <a:br>
              <a:rPr sz="2400"/>
            </a:br>
            <a:r>
              <a:rPr b="0" lang="en-US" sz="2400" spc="-1" strike="noStrike">
                <a:solidFill>
                  <a:srgbClr val="f0e500"/>
                </a:solidFill>
                <a:latin typeface="Times YU"/>
              </a:rPr>
              <a:t>      2. sposobnost da nosi genetičku informaciju </a:t>
            </a:r>
            <a:br>
              <a:rPr sz="2400"/>
            </a:br>
            <a:r>
              <a:rPr b="0" lang="en-US" sz="2400" spc="-1" strike="noStrike">
                <a:solidFill>
                  <a:srgbClr val="f0e500"/>
                </a:solidFill>
                <a:latin typeface="Times YU"/>
              </a:rPr>
              <a:t>      3. sposobnost promjenjivosti strukture i funkcije </a:t>
            </a:r>
            <a:br>
              <a:rPr sz="2400"/>
            </a:b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0e500"/>
                </a:solidFill>
                <a:latin typeface="Times YU"/>
              </a:rPr>
              <a:t>                                       </a:t>
            </a:r>
            <a:r>
              <a:rPr b="1" i="1" lang="en-US" sz="2800" spc="-1" strike="noStrike">
                <a:solidFill>
                  <a:srgbClr val="f0e500"/>
                </a:solidFill>
                <a:latin typeface="Times YU"/>
              </a:rPr>
              <a:t>Građa DNK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0e500"/>
                </a:solidFill>
                <a:latin typeface="Times YU"/>
              </a:rPr>
              <a:t>              Dezoksiribonukleinska kiselina (DNK) je molekul koji nosi naslednu materiju. Na njemu se nalaze uputstva za sintezu proteina, a njegovi delovi (geni) sadrže informacije za sintezu specifičnih proteina, tj. njihovih polipeptidnih lanca. Molekul DNK se sastoji iz dva komplementarna lanca nukleotida, koji se spiralno uvijaju i povezani su vodoničnim vezama. </a:t>
            </a:r>
            <a:br>
              <a:rPr sz="2400"/>
            </a:br>
            <a:r>
              <a:rPr b="0" lang="en-US" sz="2400" spc="-1" strike="noStrike">
                <a:solidFill>
                  <a:srgbClr val="f0e500"/>
                </a:solidFill>
                <a:latin typeface="Times YU"/>
              </a:rPr>
              <a:t>             Svaki od ova dva spiralna lanca sastoji se iz niza u kome se smjenjuju ukupno 4 nukleotida (adenin, timin, guanin i citozin). Svaki </a:t>
            </a:r>
            <a:r>
              <a:rPr b="0" i="1" lang="en-US" sz="2400" spc="-1" strike="noStrike">
                <a:solidFill>
                  <a:srgbClr val="f0e500"/>
                </a:solidFill>
                <a:latin typeface="Times YU"/>
              </a:rPr>
              <a:t>nukleotid </a:t>
            </a:r>
            <a:r>
              <a:rPr b="0" lang="en-US" sz="2400" spc="-1" strike="noStrike">
                <a:solidFill>
                  <a:srgbClr val="f0e500"/>
                </a:solidFill>
                <a:latin typeface="Times YU"/>
              </a:rPr>
              <a:t>sastoji se iz jednog pentoznog šećera (dezoksiriboze), fosforne grupe i jedne od spomenute četiri azotne baze. Spoljnu stranu lanca čini takozvani skeletni deo, koji se sastoji iz dezoksiriboze i fosforne grupe povezanih tako da čine spiralnu formaciju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0e500"/>
                </a:solidFill>
                <a:latin typeface="Times YU"/>
              </a:rPr>
              <a:t>Geni</a:t>
            </a:r>
            <a:br>
              <a:rPr sz="2800"/>
            </a:br>
            <a:r>
              <a:rPr b="0" lang="en-US" sz="2400" spc="-1" strike="noStrike">
                <a:solidFill>
                  <a:srgbClr val="f0e500"/>
                </a:solidFill>
                <a:latin typeface="Times YU"/>
              </a:rPr>
              <a:t>             Pojedini segmenti molekula DNK, </a:t>
            </a:r>
            <a:r>
              <a:rPr b="0" i="1" lang="en-US" sz="2400" spc="-1" strike="noStrike">
                <a:solidFill>
                  <a:srgbClr val="f0e500"/>
                </a:solidFill>
                <a:latin typeface="Times YU"/>
              </a:rPr>
              <a:t>geni</a:t>
            </a:r>
            <a:r>
              <a:rPr b="0" lang="en-US" sz="2400" spc="-1" strike="noStrike">
                <a:solidFill>
                  <a:srgbClr val="f0e500"/>
                </a:solidFill>
                <a:latin typeface="Times YU"/>
              </a:rPr>
              <a:t>, imaju svoje određeno mesto u ovom molekulu. Veličina gena u proseku iznosi između 400-1800 nukleotidnih parova, čiji raspored uslovljava njegovu strukturu i specifičnu funkciju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0e500"/>
                </a:solidFill>
                <a:latin typeface="Times YU"/>
              </a:rPr>
              <a:t>            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0e500"/>
                </a:solidFill>
                <a:latin typeface="Times YU"/>
              </a:rPr>
              <a:t>Genetička informacija, koju sadrži svaki gen, sastoji se od jedinstvenog redosleda nukleotida, od prvog do poslednjeg u odgovarajućem delu molekula. Oni kontrolišu stvaranje specifičnog tipa proteina.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60360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0e500"/>
                </a:solidFill>
                <a:latin typeface="Times YU"/>
              </a:rPr>
              <a:t>                             </a:t>
            </a:r>
            <a:r>
              <a:rPr b="1" i="1" lang="en-US" sz="2800" spc="-1" strike="noStrike">
                <a:solidFill>
                  <a:srgbClr val="f0e500"/>
                </a:solidFill>
                <a:latin typeface="Times YU"/>
              </a:rPr>
              <a:t>Genetička šifra,</a:t>
            </a:r>
            <a:br>
              <a:rPr sz="2800"/>
            </a:br>
            <a:r>
              <a:rPr b="1" i="1" lang="en-US" sz="2800" spc="-1" strike="noStrike">
                <a:solidFill>
                  <a:srgbClr val="f0e500"/>
                </a:solidFill>
                <a:latin typeface="Times YU"/>
              </a:rPr>
              <a:t>                       transkripcija, translacija</a:t>
            </a:r>
            <a:br>
              <a:rPr sz="2400"/>
            </a:br>
            <a:r>
              <a:rPr b="0" lang="en-US" sz="2400" spc="-1" strike="noStrike">
                <a:solidFill>
                  <a:srgbClr val="f0e500"/>
                </a:solidFill>
                <a:latin typeface="Times YU"/>
              </a:rPr>
              <a:t>            Molekul DNK sadrži genetičku šifru.Ona se prenosi kroz dve složene etape. U prvoj se informacije preslikavaju na redosled nukleotida u tzv. informacionoj RNK, ali i na transportnu i ribozomalnu RNK. Taj proces se naziva </a:t>
            </a:r>
            <a:r>
              <a:rPr b="0" i="1" lang="en-US" sz="2400" spc="-1" strike="noStrike">
                <a:solidFill>
                  <a:srgbClr val="f0e500"/>
                </a:solidFill>
                <a:latin typeface="Times YU"/>
              </a:rPr>
              <a:t>transkripcija</a:t>
            </a:r>
            <a:r>
              <a:rPr b="0" lang="en-US" sz="2400" spc="-1" strike="noStrike">
                <a:solidFill>
                  <a:srgbClr val="f0e500"/>
                </a:solidFill>
                <a:latin typeface="Times YU"/>
              </a:rPr>
              <a:t> (transcriptio-prepisivanje). Pri tome se naspram niza nukleotida jednog lanca DNK (npr.AATTGTC) formira odgovarajući niz (UUAACAG).</a:t>
            </a:r>
            <a:br>
              <a:rPr sz="2400"/>
            </a:br>
            <a:r>
              <a:rPr b="0" i="1" lang="en-US" sz="2400" spc="-1" strike="noStrike">
                <a:solidFill>
                  <a:srgbClr val="f0e500"/>
                </a:solidFill>
                <a:latin typeface="Times YU"/>
              </a:rPr>
              <a:t>            Translacija</a:t>
            </a:r>
            <a:r>
              <a:rPr b="0" lang="en-US" sz="2400" spc="-1" strike="noStrike">
                <a:solidFill>
                  <a:srgbClr val="f0e500"/>
                </a:solidFill>
                <a:latin typeface="Times YU"/>
              </a:rPr>
              <a:t> je proces formiranja polipeptidnih lanaca u proteinu na osnovu strukture molekula (iRNK). Redosled aminokiselina zavisi od redosleda nukleotida u iRNK, a ovaj od genetičke informacije, koju je primio od odgovarajućeg gena, tj. od njegovog redosleda nukleotida.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Genetičku šifru, ili kod, čine grupe od po 3 uzastopna nukleotida u DNK. Odgovarajući deo iRNK sadržaće 10 tripleta nukleotida koje nazivamo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Times YU"/>
                <a:hlinkClick r:id="rId1" action="ppaction://hlinksldjump"/>
              </a:rPr>
              <a:t>kodoni</a:t>
            </a: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, a na tRNK antikodoni. Kad molekul iRNK prolazi kroz ribozom, određeni kodon pozvaće tRNK sa odgovarajućim antikodonom, a ova će na suprotnom kraju nositi određenu aminokiselinu.</a:t>
            </a:r>
            <a:br>
              <a:rPr sz="2400"/>
            </a:b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          Pomeranjem ribozoma duž molekula iRNK, vezivaće se naredni tRNK molekuli koji nose odg. AK, i formiraće karakterističan polipeptidni lanac, u zavisnosti od rasporeda kodona.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0e500"/>
                </a:solidFill>
                <a:latin typeface="Times YU"/>
              </a:rPr>
              <a:t>Primena GRAIL-a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4000" y="138600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0e500"/>
              </a:buClr>
              <a:buFont typeface="Times YU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GRAIL – sistem baziran na neuronskoj mreži,  koji lokalizuje gene u anonimnoj sekvenci DNK, na taj način što prepoznaje osobine koje su povezane sa regionima proteinskog kodiranja i granice regiona kodiranja. Lokalizovani regioni kodiranja se onda raščlanjuju i uklapaju u model g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e500"/>
              </a:buClr>
              <a:buFont typeface="Times YU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Tokom desetak godina intenzivnog testitanja i obučavanja mreže, GRAIL je uspeo da locira oko 90% kodiranih delo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e500"/>
              </a:buClr>
              <a:buFont typeface="Times YU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Danas  se GRAIL koristi u preko 1000 laboratorija širom sv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e500"/>
              </a:buClr>
              <a:buFont typeface="Times YU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Korišćenjem ovog sistema otkriven je veliki broj gena-krivaca mnogih naslednih obolje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e500"/>
              </a:buClr>
              <a:buFont typeface="Times YU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Times YU"/>
              </a:rPr>
              <a:t>Usavršavanju ovog sistema doprinosi postojanje servera sa bazom podataka koja se putem globalne mreže enormno uvećava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8:01:08Z</dcterms:created>
  <dc:creator>Vladimir Balovic</dc:creator>
  <dc:description/>
  <dc:language>en-US</dc:language>
  <cp:lastModifiedBy>miona</cp:lastModifiedBy>
  <dcterms:modified xsi:type="dcterms:W3CDTF">2005-12-29T12:19:25Z</dcterms:modified>
  <cp:revision>9</cp:revision>
  <dc:subject/>
  <dc:title>GRAIL: Multi-agentska neuronska mre`a Sistem za identifikaciju gena</dc:title>
</cp:coreProperties>
</file>