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BDF-2C08-4884-B7B8-1210065B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F43-61DF-4FEB-9389-34EA577A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01D-8E73-4AB6-AB24-588E3577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71F-1FDC-4599-B65A-8DE514A9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BACA-9C41-4A91-AF6A-60E74085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A66B-0195-422E-A325-F2F26AAA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3A46-9BC8-466A-84FB-257FE69A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184A-C05A-4361-BE93-FD5A1EFA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4813-F9F8-40F4-A0B0-5BA2C0A9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82D8-7290-4B60-B893-05897147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CFA9-0321-4D9F-9CE6-EB48516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4A6-954A-46BB-87CD-CEE7EC85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E4B-9D1E-4DB8-A102-F21F87F3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AE48-E0EC-4C77-8FCB-3E57675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1290-3AF3-470A-9654-03939644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CF54-D59E-4C9F-98E6-C14B47EF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069C-8E8E-4FE3-9C8B-254D61F4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43B-F940-4AA4-BDD1-6681349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DED-5F9D-4BFD-903F-11D61EAB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A34-E772-409C-9FB6-6174E429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2D9-AAA0-40C5-B52C-5650F46C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16E-91EC-46C6-8D8C-F8EA57CB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FBF-DCF0-424C-9C96-2E98158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975-8C55-472A-B76E-FA827CE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68F9-F882-410D-B2D9-4335F7D77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4029-25D2-423B-B95E-D5C001C7D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NEURONSKE MREZ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UPRAVLJANJE SAOBRACAJ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U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ELEFONSKIM MREZA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373480" y="541008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59680" y="365760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49440" y="4419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16280" y="3048120"/>
            <a:ext cx="7596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40160" y="33526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88080" y="251460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6840" y="58672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88280" y="5791320"/>
            <a:ext cx="7596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54960" y="33526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5440" y="4419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502920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09" idx="5"/>
            <a:endCxn id="215" idx="6"/>
          </p:cNvCxnSpPr>
          <p:nvPr/>
        </p:nvCxnSpPr>
        <p:spPr>
          <a:xfrm>
            <a:off x="2438280" y="5474880"/>
            <a:ext cx="2145600" cy="4309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21" name=""/>
          <p:cNvCxnSpPr>
            <a:stCxn id="218" idx="3"/>
            <a:endCxn id="215" idx="6"/>
          </p:cNvCxnSpPr>
          <p:nvPr/>
        </p:nvCxnSpPr>
        <p:spPr>
          <a:xfrm flipH="1">
            <a:off x="4582800" y="4484160"/>
            <a:ext cx="164160" cy="14216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22" name=""/>
          <p:cNvCxnSpPr>
            <a:stCxn id="209" idx="4"/>
            <a:endCxn id="211" idx="6"/>
          </p:cNvCxnSpPr>
          <p:nvPr/>
        </p:nvCxnSpPr>
        <p:spPr>
          <a:xfrm flipV="1">
            <a:off x="2411280" y="4457520"/>
            <a:ext cx="115200" cy="1028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23" name=""/>
          <p:cNvCxnSpPr>
            <a:stCxn id="212" idx="7"/>
            <a:endCxn id="213" idx="6"/>
          </p:cNvCxnSpPr>
          <p:nvPr/>
        </p:nvCxnSpPr>
        <p:spPr>
          <a:xfrm>
            <a:off x="1980720" y="3058920"/>
            <a:ext cx="1536120" cy="3322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24" name=""/>
          <p:cNvCxnSpPr>
            <a:stCxn id="213" idx="6"/>
            <a:endCxn id="214" idx="3"/>
          </p:cNvCxnSpPr>
          <p:nvPr/>
        </p:nvCxnSpPr>
        <p:spPr>
          <a:xfrm flipV="1">
            <a:off x="3516480" y="2579040"/>
            <a:ext cx="1383120" cy="81180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25" name=""/>
          <p:cNvCxnSpPr>
            <a:stCxn id="214" idx="3"/>
            <a:endCxn id="210" idx="4"/>
          </p:cNvCxnSpPr>
          <p:nvPr/>
        </p:nvCxnSpPr>
        <p:spPr>
          <a:xfrm>
            <a:off x="4898520" y="2579760"/>
            <a:ext cx="1399320" cy="1154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26" name=""/>
          <p:cNvCxnSpPr>
            <a:stCxn id="210" idx="4"/>
            <a:endCxn id="219" idx="7"/>
          </p:cNvCxnSpPr>
          <p:nvPr/>
        </p:nvCxnSpPr>
        <p:spPr>
          <a:xfrm>
            <a:off x="6297480" y="3733560"/>
            <a:ext cx="332640" cy="130716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27" name=""/>
          <p:cNvCxnSpPr>
            <a:stCxn id="215" idx="7"/>
            <a:endCxn id="216" idx="4"/>
          </p:cNvCxnSpPr>
          <p:nvPr/>
        </p:nvCxnSpPr>
        <p:spPr>
          <a:xfrm flipV="1">
            <a:off x="4572000" y="5866560"/>
            <a:ext cx="1954800" cy="11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28" name=""/>
          <p:cNvCxnSpPr>
            <a:stCxn id="218" idx="5"/>
            <a:endCxn id="210" idx="1"/>
          </p:cNvCxnSpPr>
          <p:nvPr/>
        </p:nvCxnSpPr>
        <p:spPr>
          <a:xfrm flipV="1">
            <a:off x="4800240" y="3668400"/>
            <a:ext cx="1470240" cy="8164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29" name=""/>
          <p:cNvCxnSpPr>
            <a:stCxn id="219" idx="4"/>
            <a:endCxn id="218" idx="5"/>
          </p:cNvCxnSpPr>
          <p:nvPr/>
        </p:nvCxnSpPr>
        <p:spPr>
          <a:xfrm flipH="1" flipV="1">
            <a:off x="4799880" y="4483800"/>
            <a:ext cx="1802520" cy="6217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30" name=""/>
          <p:cNvCxnSpPr>
            <a:stCxn id="212" idx="5"/>
            <a:endCxn id="211" idx="0"/>
          </p:cNvCxnSpPr>
          <p:nvPr/>
        </p:nvCxnSpPr>
        <p:spPr>
          <a:xfrm>
            <a:off x="1980720" y="3112920"/>
            <a:ext cx="506880" cy="13075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31" name=""/>
          <p:cNvCxnSpPr>
            <a:stCxn id="212" idx="3"/>
            <a:endCxn id="218" idx="3"/>
          </p:cNvCxnSpPr>
          <p:nvPr/>
        </p:nvCxnSpPr>
        <p:spPr>
          <a:xfrm>
            <a:off x="1927080" y="3112920"/>
            <a:ext cx="2820240" cy="13723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32" name=""/>
          <p:cNvCxnSpPr>
            <a:stCxn id="211" idx="6"/>
            <a:endCxn id="218" idx="6"/>
          </p:cNvCxnSpPr>
          <p:nvPr/>
        </p:nvCxnSpPr>
        <p:spPr>
          <a:xfrm>
            <a:off x="2525760" y="4457520"/>
            <a:ext cx="2286720" cy="10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33" name=""/>
          <p:cNvCxnSpPr>
            <a:stCxn id="219" idx="6"/>
            <a:endCxn id="215" idx="6"/>
          </p:cNvCxnSpPr>
          <p:nvPr/>
        </p:nvCxnSpPr>
        <p:spPr>
          <a:xfrm flipH="1">
            <a:off x="4582800" y="5067360"/>
            <a:ext cx="2057760" cy="83880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34" name=""/>
          <p:cNvCxnSpPr>
            <a:stCxn id="214" idx="4"/>
            <a:endCxn id="218" idx="7"/>
          </p:cNvCxnSpPr>
          <p:nvPr/>
        </p:nvCxnSpPr>
        <p:spPr>
          <a:xfrm flipH="1">
            <a:off x="4800240" y="2590560"/>
            <a:ext cx="126000" cy="18406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35" name=""/>
          <p:cNvCxnSpPr>
            <a:stCxn id="209" idx="6"/>
            <a:endCxn id="218" idx="5"/>
          </p:cNvCxnSpPr>
          <p:nvPr/>
        </p:nvCxnSpPr>
        <p:spPr>
          <a:xfrm flipV="1">
            <a:off x="2449080" y="4483800"/>
            <a:ext cx="2351880" cy="9644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36" name=""/>
          <p:cNvCxnSpPr>
            <a:stCxn id="211" idx="5"/>
            <a:endCxn id="215" idx="6"/>
          </p:cNvCxnSpPr>
          <p:nvPr/>
        </p:nvCxnSpPr>
        <p:spPr>
          <a:xfrm>
            <a:off x="2514600" y="4484160"/>
            <a:ext cx="2069280" cy="14216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37" name=""/>
          <p:cNvCxnSpPr>
            <a:stCxn id="213" idx="4"/>
            <a:endCxn id="218" idx="3"/>
          </p:cNvCxnSpPr>
          <p:nvPr/>
        </p:nvCxnSpPr>
        <p:spPr>
          <a:xfrm>
            <a:off x="3477960" y="3429000"/>
            <a:ext cx="1269000" cy="10562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38" name=""/>
          <p:cNvCxnSpPr>
            <a:stCxn id="216" idx="5"/>
            <a:endCxn id="217" idx="4"/>
          </p:cNvCxnSpPr>
          <p:nvPr/>
        </p:nvCxnSpPr>
        <p:spPr>
          <a:xfrm flipV="1">
            <a:off x="6552720" y="3428640"/>
            <a:ext cx="1040760" cy="24278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39" name=""/>
          <p:cNvCxnSpPr>
            <a:stCxn id="210" idx="5"/>
            <a:endCxn id="217" idx="5"/>
          </p:cNvCxnSpPr>
          <p:nvPr/>
        </p:nvCxnSpPr>
        <p:spPr>
          <a:xfrm flipV="1">
            <a:off x="6324120" y="3417120"/>
            <a:ext cx="1296360" cy="3056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40" name=""/>
          <p:cNvCxnSpPr>
            <a:stCxn id="219" idx="5"/>
            <a:endCxn id="217" idx="6"/>
          </p:cNvCxnSpPr>
          <p:nvPr/>
        </p:nvCxnSpPr>
        <p:spPr>
          <a:xfrm flipV="1">
            <a:off x="6629040" y="3390480"/>
            <a:ext cx="1002600" cy="17042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2743560" y="914400"/>
            <a:ext cx="35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Gubitak centr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3886200"/>
            <a:ext cx="1295280" cy="1066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838080"/>
            <a:ext cx="5181840" cy="914400"/>
          </a:xfrm>
          <a:prstGeom prst="wedgeRoundRectCallout">
            <a:avLst>
              <a:gd name="adj1" fmla="val -763"/>
              <a:gd name="adj2" fmla="val 283162"/>
              <a:gd name="adj3" fmla="val 16667"/>
            </a:avLst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486040" y="3200040"/>
            <a:ext cx="152280" cy="762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562360" y="4876920"/>
            <a:ext cx="22860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09520" y="52578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809520" y="5257800"/>
            <a:ext cx="76212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373480" y="541008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59680" y="365760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49440" y="4419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6280" y="3048120"/>
            <a:ext cx="7596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40160" y="33526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88080" y="251460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06840" y="58672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88280" y="5791320"/>
            <a:ext cx="7596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4960" y="33526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35440" y="4419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64240" y="502920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8" idx="5"/>
            <a:endCxn id="254" idx="6"/>
          </p:cNvCxnSpPr>
          <p:nvPr/>
        </p:nvCxnSpPr>
        <p:spPr>
          <a:xfrm>
            <a:off x="2438280" y="5474880"/>
            <a:ext cx="2145600" cy="4309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60" name=""/>
          <p:cNvCxnSpPr>
            <a:stCxn id="257" idx="3"/>
            <a:endCxn id="254" idx="6"/>
          </p:cNvCxnSpPr>
          <p:nvPr/>
        </p:nvCxnSpPr>
        <p:spPr>
          <a:xfrm flipH="1">
            <a:off x="4582800" y="4484160"/>
            <a:ext cx="164160" cy="14216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61" name=""/>
          <p:cNvCxnSpPr>
            <a:stCxn id="248" idx="4"/>
            <a:endCxn id="250" idx="6"/>
          </p:cNvCxnSpPr>
          <p:nvPr/>
        </p:nvCxnSpPr>
        <p:spPr>
          <a:xfrm flipV="1">
            <a:off x="2411280" y="4457520"/>
            <a:ext cx="115200" cy="1028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62" name=""/>
          <p:cNvCxnSpPr>
            <a:stCxn id="251" idx="7"/>
            <a:endCxn id="252" idx="6"/>
          </p:cNvCxnSpPr>
          <p:nvPr/>
        </p:nvCxnSpPr>
        <p:spPr>
          <a:xfrm>
            <a:off x="1980720" y="3058920"/>
            <a:ext cx="1536120" cy="3322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63" name=""/>
          <p:cNvCxnSpPr>
            <a:stCxn id="252" idx="6"/>
            <a:endCxn id="253" idx="3"/>
          </p:cNvCxnSpPr>
          <p:nvPr/>
        </p:nvCxnSpPr>
        <p:spPr>
          <a:xfrm flipV="1">
            <a:off x="3516480" y="2579040"/>
            <a:ext cx="1383120" cy="81180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64" name=""/>
          <p:cNvCxnSpPr>
            <a:stCxn id="253" idx="3"/>
            <a:endCxn id="249" idx="4"/>
          </p:cNvCxnSpPr>
          <p:nvPr/>
        </p:nvCxnSpPr>
        <p:spPr>
          <a:xfrm>
            <a:off x="4898520" y="2579760"/>
            <a:ext cx="1399320" cy="1154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65" name=""/>
          <p:cNvCxnSpPr>
            <a:stCxn id="249" idx="4"/>
            <a:endCxn id="258" idx="7"/>
          </p:cNvCxnSpPr>
          <p:nvPr/>
        </p:nvCxnSpPr>
        <p:spPr>
          <a:xfrm>
            <a:off x="6297480" y="3733560"/>
            <a:ext cx="332640" cy="130716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66" name=""/>
          <p:cNvCxnSpPr>
            <a:stCxn id="254" idx="7"/>
            <a:endCxn id="255" idx="4"/>
          </p:cNvCxnSpPr>
          <p:nvPr/>
        </p:nvCxnSpPr>
        <p:spPr>
          <a:xfrm flipV="1">
            <a:off x="4572000" y="5866560"/>
            <a:ext cx="1954800" cy="118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67" name=""/>
          <p:cNvCxnSpPr>
            <a:stCxn id="257" idx="5"/>
            <a:endCxn id="249" idx="1"/>
          </p:cNvCxnSpPr>
          <p:nvPr/>
        </p:nvCxnSpPr>
        <p:spPr>
          <a:xfrm flipV="1">
            <a:off x="4800240" y="3668400"/>
            <a:ext cx="1470240" cy="8164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68" name=""/>
          <p:cNvCxnSpPr>
            <a:stCxn id="258" idx="4"/>
            <a:endCxn id="257" idx="5"/>
          </p:cNvCxnSpPr>
          <p:nvPr/>
        </p:nvCxnSpPr>
        <p:spPr>
          <a:xfrm flipH="1" flipV="1">
            <a:off x="4799880" y="4483800"/>
            <a:ext cx="1802520" cy="6217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69" name=""/>
          <p:cNvCxnSpPr>
            <a:stCxn id="251" idx="5"/>
            <a:endCxn id="250" idx="0"/>
          </p:cNvCxnSpPr>
          <p:nvPr/>
        </p:nvCxnSpPr>
        <p:spPr>
          <a:xfrm>
            <a:off x="1980720" y="3112920"/>
            <a:ext cx="506880" cy="13075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70" name=""/>
          <p:cNvCxnSpPr>
            <a:stCxn id="251" idx="3"/>
            <a:endCxn id="257" idx="3"/>
          </p:cNvCxnSpPr>
          <p:nvPr/>
        </p:nvCxnSpPr>
        <p:spPr>
          <a:xfrm>
            <a:off x="1927080" y="3112920"/>
            <a:ext cx="2820240" cy="13723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71" name=""/>
          <p:cNvCxnSpPr>
            <a:stCxn id="250" idx="6"/>
            <a:endCxn id="257" idx="6"/>
          </p:cNvCxnSpPr>
          <p:nvPr/>
        </p:nvCxnSpPr>
        <p:spPr>
          <a:xfrm>
            <a:off x="2525760" y="4457520"/>
            <a:ext cx="2286720" cy="10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72" name=""/>
          <p:cNvCxnSpPr>
            <a:stCxn id="258" idx="6"/>
            <a:endCxn id="254" idx="6"/>
          </p:cNvCxnSpPr>
          <p:nvPr/>
        </p:nvCxnSpPr>
        <p:spPr>
          <a:xfrm flipH="1">
            <a:off x="4582800" y="5067360"/>
            <a:ext cx="2057760" cy="83880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73" name=""/>
          <p:cNvCxnSpPr>
            <a:stCxn id="253" idx="4"/>
            <a:endCxn id="257" idx="7"/>
          </p:cNvCxnSpPr>
          <p:nvPr/>
        </p:nvCxnSpPr>
        <p:spPr>
          <a:xfrm flipH="1">
            <a:off x="4800240" y="2590560"/>
            <a:ext cx="126000" cy="18406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74" name=""/>
          <p:cNvCxnSpPr>
            <a:stCxn id="248" idx="6"/>
            <a:endCxn id="257" idx="5"/>
          </p:cNvCxnSpPr>
          <p:nvPr/>
        </p:nvCxnSpPr>
        <p:spPr>
          <a:xfrm flipV="1">
            <a:off x="2449080" y="4483800"/>
            <a:ext cx="2351880" cy="9644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75" name=""/>
          <p:cNvCxnSpPr>
            <a:stCxn id="250" idx="5"/>
            <a:endCxn id="254" idx="6"/>
          </p:cNvCxnSpPr>
          <p:nvPr/>
        </p:nvCxnSpPr>
        <p:spPr>
          <a:xfrm>
            <a:off x="2514600" y="4484160"/>
            <a:ext cx="2069280" cy="14216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76" name=""/>
          <p:cNvCxnSpPr>
            <a:stCxn id="252" idx="4"/>
            <a:endCxn id="257" idx="3"/>
          </p:cNvCxnSpPr>
          <p:nvPr/>
        </p:nvCxnSpPr>
        <p:spPr>
          <a:xfrm>
            <a:off x="3477960" y="3429000"/>
            <a:ext cx="1269000" cy="10562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77" name=""/>
          <p:cNvCxnSpPr>
            <a:stCxn id="255" idx="5"/>
            <a:endCxn id="256" idx="4"/>
          </p:cNvCxnSpPr>
          <p:nvPr/>
        </p:nvCxnSpPr>
        <p:spPr>
          <a:xfrm flipV="1">
            <a:off x="6552720" y="3428640"/>
            <a:ext cx="1040760" cy="24278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78" name=""/>
          <p:cNvCxnSpPr>
            <a:stCxn id="249" idx="5"/>
            <a:endCxn id="256" idx="5"/>
          </p:cNvCxnSpPr>
          <p:nvPr/>
        </p:nvCxnSpPr>
        <p:spPr>
          <a:xfrm flipV="1">
            <a:off x="6324120" y="3417120"/>
            <a:ext cx="1296360" cy="3056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79" name=""/>
          <p:cNvCxnSpPr>
            <a:stCxn id="258" idx="5"/>
            <a:endCxn id="256" idx="6"/>
          </p:cNvCxnSpPr>
          <p:nvPr/>
        </p:nvCxnSpPr>
        <p:spPr>
          <a:xfrm flipV="1">
            <a:off x="6629040" y="3390480"/>
            <a:ext cx="1002600" cy="17042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277080" y="838080"/>
            <a:ext cx="282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Prekid linij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762120"/>
            <a:ext cx="3809880" cy="1066680"/>
          </a:xfrm>
          <a:prstGeom prst="wedgeRoundRectCallout">
            <a:avLst>
              <a:gd name="adj1" fmla="val 26833"/>
              <a:gd name="adj2" fmla="val 222023"/>
              <a:gd name="adj3" fmla="val 16667"/>
            </a:avLst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2" name=""/>
          <p:cNvCxnSpPr/>
          <p:nvPr/>
        </p:nvCxnSpPr>
        <p:spPr>
          <a:xfrm>
            <a:off x="5257800" y="3657240"/>
            <a:ext cx="838800" cy="6865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83" name=""/>
          <p:cNvCxnSpPr/>
          <p:nvPr/>
        </p:nvCxnSpPr>
        <p:spPr>
          <a:xfrm flipH="1">
            <a:off x="5486040" y="3657240"/>
            <a:ext cx="381600" cy="7628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sp>
        <p:nvSpPr>
          <p:cNvPr id="284" name=""/>
          <p:cNvSpPr/>
          <p:nvPr/>
        </p:nvSpPr>
        <p:spPr>
          <a:xfrm flipH="1">
            <a:off x="6552720" y="3657600"/>
            <a:ext cx="38124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943600" y="3276360"/>
            <a:ext cx="99072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Mrezni upravljaci mogu da vrs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xpansive contr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pogodna za pojedinacna preopterecenja linija izazvana statistickim fluktuacijama saobracaja. Primer ovakve kontrole je preusmerav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estrictive control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godna za preopterecenja izazvana velikim brojem dolazecih poziva. Primer je zabrana ulaskana na mre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loga neuronskih mrez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kupljene podatke je potrebno istraziti i izvesti zakljuc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eznim upravljacima je potrebna precizna i pravovremena procena prohodnosti mre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rebno je predvideti capacitet mreze na osnovu prisutnih podat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REMENSKA ANALIZA ZAUZE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AA sistem igra ulogu mreznog upravljaca koji na svakih 5min. dobija podatke merenja na mrez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uzetost linije je jedno od tih merenja koje pokazuje koliko na liniji ima slobodnog kapacit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osnovu ovih podataka NOAA predvidja buducu zauzetost linije i preporucuje kuda preusmeriti saobracaj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Zauzet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na se krece od 0 do 100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nske mreze,linearni predvidjaci i lokalna aproksimacija su tehnike koriscene u za ovakvu procen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Untitled-Scanned-02" descr=""/>
          <p:cNvPicPr/>
          <p:nvPr/>
        </p:nvPicPr>
        <p:blipFill>
          <a:blip r:embed="rId1"/>
          <a:stretch/>
        </p:blipFill>
        <p:spPr>
          <a:xfrm>
            <a:off x="1558800" y="1133640"/>
            <a:ext cx="602640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uronske mrez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tekture koje se mogu koristiti s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forward neu.mre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kurentne neu.mre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02200" y="1968480"/>
            <a:ext cx="533160" cy="53352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69080" y="3568680"/>
            <a:ext cx="533520" cy="53352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02200" y="5016600"/>
            <a:ext cx="533160" cy="5331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02200" y="3568680"/>
            <a:ext cx="533160" cy="53352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98" idx="6"/>
            <a:endCxn id="299" idx="1"/>
          </p:cNvCxnSpPr>
          <p:nvPr/>
        </p:nvCxnSpPr>
        <p:spPr>
          <a:xfrm>
            <a:off x="4649400" y="2235240"/>
            <a:ext cx="2197800" cy="1397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3" name=""/>
          <p:cNvCxnSpPr>
            <a:stCxn id="301" idx="6"/>
            <a:endCxn id="299" idx="2"/>
          </p:cNvCxnSpPr>
          <p:nvPr/>
        </p:nvCxnSpPr>
        <p:spPr>
          <a:xfrm>
            <a:off x="4649400" y="3835080"/>
            <a:ext cx="21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4" name=""/>
          <p:cNvCxnSpPr>
            <a:stCxn id="300" idx="6"/>
            <a:endCxn id="299" idx="3"/>
          </p:cNvCxnSpPr>
          <p:nvPr/>
        </p:nvCxnSpPr>
        <p:spPr>
          <a:xfrm flipV="1">
            <a:off x="4649400" y="4038120"/>
            <a:ext cx="2197800" cy="1245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5" name=""/>
          <p:cNvCxnSpPr>
            <a:stCxn id="298" idx="2"/>
          </p:cNvCxnSpPr>
          <p:nvPr/>
        </p:nvCxnSpPr>
        <p:spPr>
          <a:xfrm flipH="1">
            <a:off x="2334960" y="2235240"/>
            <a:ext cx="1753200" cy="2324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300" idx="2"/>
          </p:cNvCxnSpPr>
          <p:nvPr/>
        </p:nvCxnSpPr>
        <p:spPr>
          <a:xfrm flipH="1" flipV="1">
            <a:off x="2410560" y="2806200"/>
            <a:ext cx="1677240" cy="2477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98" idx="2"/>
          </p:cNvCxnSpPr>
          <p:nvPr/>
        </p:nvCxnSpPr>
        <p:spPr>
          <a:xfrm flipH="1">
            <a:off x="2410560" y="2234880"/>
            <a:ext cx="1677240" cy="5720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301" idx="2"/>
          </p:cNvCxnSpPr>
          <p:nvPr/>
        </p:nvCxnSpPr>
        <p:spPr>
          <a:xfrm flipH="1" flipV="1">
            <a:off x="2410560" y="2806200"/>
            <a:ext cx="1677240" cy="1029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300" idx="2"/>
          </p:cNvCxnSpPr>
          <p:nvPr/>
        </p:nvCxnSpPr>
        <p:spPr>
          <a:xfrm flipH="1" flipV="1">
            <a:off x="2334960" y="4558680"/>
            <a:ext cx="1753200" cy="724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301" idx="2"/>
          </p:cNvCxnSpPr>
          <p:nvPr/>
        </p:nvCxnSpPr>
        <p:spPr>
          <a:xfrm flipH="1">
            <a:off x="2334960" y="3835080"/>
            <a:ext cx="1753200" cy="724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4178160" y="204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78160" y="3645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78160" y="5092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45400" y="364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37320" y="212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75960" y="2349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73800" y="3416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42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4520" y="311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42240" y="3720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0840" y="4178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89960" y="4559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65920" y="250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9200" y="26668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az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9200" y="44197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az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14" idx="3"/>
          </p:cNvCxnSpPr>
          <p:nvPr/>
        </p:nvCxnSpPr>
        <p:spPr>
          <a:xfrm>
            <a:off x="7378200" y="3873240"/>
            <a:ext cx="8391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8292960" y="364500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zla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1523880"/>
            <a:ext cx="1295280" cy="441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4600" y="601992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kriveni sl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1640" y="301680"/>
            <a:ext cx="62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edforward neu. mre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earni predvidjac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3581280"/>
            <a:ext cx="304560" cy="3049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32" idx="2"/>
          </p:cNvCxnSpPr>
          <p:nvPr/>
        </p:nvCxnSpPr>
        <p:spPr>
          <a:xfrm flipH="1" flipV="1">
            <a:off x="2971440" y="2209320"/>
            <a:ext cx="2805840" cy="15249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34" name=""/>
          <p:cNvCxnSpPr>
            <a:stCxn id="332" idx="2"/>
          </p:cNvCxnSpPr>
          <p:nvPr/>
        </p:nvCxnSpPr>
        <p:spPr>
          <a:xfrm flipH="1" flipV="1">
            <a:off x="2971440" y="3047400"/>
            <a:ext cx="280584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35" name=""/>
          <p:cNvCxnSpPr>
            <a:stCxn id="332" idx="2"/>
          </p:cNvCxnSpPr>
          <p:nvPr/>
        </p:nvCxnSpPr>
        <p:spPr>
          <a:xfrm flipH="1">
            <a:off x="2971440" y="3733560"/>
            <a:ext cx="28058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36" name=""/>
          <p:cNvCxnSpPr>
            <a:stCxn id="332" idx="2"/>
          </p:cNvCxnSpPr>
          <p:nvPr/>
        </p:nvCxnSpPr>
        <p:spPr>
          <a:xfrm flipH="1">
            <a:off x="2971440" y="3733560"/>
            <a:ext cx="280584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37" name=""/>
          <p:cNvCxnSpPr>
            <a:stCxn id="332" idx="2"/>
          </p:cNvCxnSpPr>
          <p:nvPr/>
        </p:nvCxnSpPr>
        <p:spPr>
          <a:xfrm flipH="1">
            <a:off x="3047760" y="3733560"/>
            <a:ext cx="2729520" cy="1448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38" name=""/>
          <p:cNvCxnSpPr>
            <a:stCxn id="332" idx="6"/>
          </p:cNvCxnSpPr>
          <p:nvPr/>
        </p:nvCxnSpPr>
        <p:spPr>
          <a:xfrm>
            <a:off x="6110280" y="3733560"/>
            <a:ext cx="5198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7913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01280" y="1981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az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360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1280" y="27432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az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1280" y="35053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az#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1280" y="41911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az#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1280" y="49528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az#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0" y="35053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zla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608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608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608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6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89680" y="430200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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) =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6960" y="472428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74000" y="4191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V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 1990.  Pacific Bell i CalTech pocinju sa radom na sistemu za upravljanje saobracaja u realnom vremenu kod tel.mreza       (expert sist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kat dobija naziv NOAA(Network Operations Analyzer and Assist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kalni aproksimat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ziran na principu “istorija ce se ponoviti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deli podatke na ucece i testne a ideja je o tome da za svaki testni set podataka se trazi set ucecicih podataka koji je najslicnij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av set podataka se koristi za ucenje linearnog predvidjaca koji izvodi zakljucak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Untitled-Scanned-03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477120" cy="1768320"/>
          </a:xfrm>
          <a:prstGeom prst="rect">
            <a:avLst/>
          </a:prstGeom>
          <a:ln w="0">
            <a:noFill/>
          </a:ln>
        </p:spPr>
      </p:pic>
      <p:pic>
        <p:nvPicPr>
          <p:cNvPr id="357" name="Untitled-Scanned-04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6458040" cy="15177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048120" y="2133720"/>
            <a:ext cx="3886200" cy="228600"/>
          </a:xfrm>
          <a:prstGeom prst="rect">
            <a:avLst/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ravdanost prolaz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o je tehnika kojom je moguce testirati neki metod da li je on dobar ili ne, tj.da li ima dobre mogucnosti ucenja i generalizova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zimamo v kao konstantu prolaza. Od ukupno N uzoraka N-N/v uzoraka se koristi za ucenje a preostalih N/v za testir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akva tehnika nam omogucava maksimalno iskoriscenje podataka i proveru rezultat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ZERVACIJA LINI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tipicnoj tel. mrezi da bi se uspostavio poziv vrsi se jedan pokusaj ili dv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pokusajni saobracaj se naziva direktno ruturani a ako imamo dva pokusaja alternativno rutirani saobraca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da dodje do zagusenja na liniji mrezni upravljaci imaju mogucnoct da blokiraju alternativni a propuste direkt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zervacija linije je politika koja ce blokirati alternativni i ako postoji mogucnost vec ce cekati da dodje direkti i njega propu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imamo N parica u jednoj liniji i R je parametar rezervaci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N ili manje od N-R parica zauzetih R nam ne daje nikakvu informaci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tacno N-R  R nam daje informaciju da li treba propusti poziv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edano sa stanovista uloga bitno je koliko treba cekati da direktni poziv dod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je Th vreme cekanja alternativnog poziva a znamo da direktni poziv dva puta vise iskoriscava mogucnosti mreze onda je 2/3Th tacka u kojoj ce ulog biti izgublj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2437920" y="3987000"/>
            <a:ext cx="1080" cy="221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>
            <a:off x="2438280" y="5130360"/>
            <a:ext cx="36583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2438280" y="4495680"/>
            <a:ext cx="3733920" cy="1016280"/>
          </a:xfrm>
          <a:custGeom>
            <a:avLst/>
            <a:gdLst/>
            <a:ahLst/>
            <a:rect l="l" t="t" r="r" b="b"/>
            <a:pathLst>
              <a:path w="2352" h="640">
                <a:moveTo>
                  <a:pt x="0" y="16"/>
                </a:moveTo>
                <a:cubicBezTo>
                  <a:pt x="164" y="8"/>
                  <a:pt x="328" y="0"/>
                  <a:pt x="576" y="64"/>
                </a:cubicBezTo>
                <a:cubicBezTo>
                  <a:pt x="824" y="128"/>
                  <a:pt x="1256" y="312"/>
                  <a:pt x="1488" y="400"/>
                </a:cubicBezTo>
                <a:cubicBezTo>
                  <a:pt x="1720" y="488"/>
                  <a:pt x="1824" y="552"/>
                  <a:pt x="1968" y="592"/>
                </a:cubicBezTo>
                <a:cubicBezTo>
                  <a:pt x="2112" y="632"/>
                  <a:pt x="2232" y="636"/>
                  <a:pt x="2352" y="6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endCxn id="367" idx="0"/>
          </p:cNvCxnSpPr>
          <p:nvPr/>
        </p:nvCxnSpPr>
        <p:spPr>
          <a:xfrm flipV="1">
            <a:off x="4419720" y="5130360"/>
            <a:ext cx="381600" cy="9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3642480" y="59342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/3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9080" y="5130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41560" y="35719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800" y="60958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bita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mulac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simulaciju je koriscena mesavina slabog(0.8), srednjeg(0.15) i jakog(0.05) saobraca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reza za simulaciju imala je 10 centrala i 10 bidirekcionih linija izmedju svake cent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am je generisao testne slucajeve i ucece na nacin: za svaki alternativni poziv koji se ne podudara sa rezervacijom linije izveden je test. Prebrojani su svi direktni pozivi koji su pristigli za vreme cekanja(2/3Th). Broj blokiranih direktnih poziva upisivan je u uceci set podataka kao zeljena vrednost za 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lazi u neuronsku mrez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ptrecenje centra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 definise kao broj zauzetih linija kroz ukupan broj linija  cent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specnost preusmerenj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e eksponencijalna procena koliko poziva je izvrseno nakon blokiranjana na njihovom direktnom pu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86000" y="2971800"/>
            <a:ext cx="2209680" cy="1295280"/>
          </a:xfrm>
          <a:custGeom>
            <a:avLst/>
            <a:gdLst/>
            <a:ahLst/>
            <a:rect l="l" t="t" r="r" b="b"/>
            <a:pathLst>
              <a:path w="1392" h="816">
                <a:moveTo>
                  <a:pt x="0" y="0"/>
                </a:moveTo>
                <a:lnTo>
                  <a:pt x="336" y="192"/>
                </a:lnTo>
                <a:lnTo>
                  <a:pt x="768" y="480"/>
                </a:lnTo>
                <a:lnTo>
                  <a:pt x="1104" y="672"/>
                </a:lnTo>
                <a:lnTo>
                  <a:pt x="1392" y="816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2743200"/>
            <a:ext cx="2133720" cy="152388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672"/>
                </a:lnTo>
                <a:lnTo>
                  <a:pt x="816" y="384"/>
                </a:lnTo>
                <a:lnTo>
                  <a:pt x="1152" y="144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0" y="1676520"/>
            <a:ext cx="2133720" cy="1295280"/>
          </a:xfrm>
          <a:custGeom>
            <a:avLst/>
            <a:gdLst/>
            <a:ahLst/>
            <a:rect l="l" t="t" r="r" b="b"/>
            <a:pathLst>
              <a:path w="1344" h="803">
                <a:moveTo>
                  <a:pt x="0" y="803"/>
                </a:moveTo>
                <a:lnTo>
                  <a:pt x="288" y="611"/>
                </a:lnTo>
                <a:lnTo>
                  <a:pt x="624" y="417"/>
                </a:lnTo>
                <a:lnTo>
                  <a:pt x="1200" y="83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1676520"/>
            <a:ext cx="2209680" cy="1066680"/>
          </a:xfrm>
          <a:custGeom>
            <a:avLst/>
            <a:gdLst/>
            <a:ahLst/>
            <a:rect l="l" t="t" r="r" b="b"/>
            <a:pathLst>
              <a:path w="1392" h="672">
                <a:moveTo>
                  <a:pt x="1392" y="672"/>
                </a:moveTo>
                <a:lnTo>
                  <a:pt x="1008" y="480"/>
                </a:lnTo>
                <a:lnTo>
                  <a:pt x="672" y="288"/>
                </a:lnTo>
                <a:lnTo>
                  <a:pt x="336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71800" y="1981080"/>
            <a:ext cx="2133720" cy="1371600"/>
          </a:xfrm>
          <a:custGeom>
            <a:avLst/>
            <a:gdLst/>
            <a:ahLst/>
            <a:rect l="l" t="t" r="r" b="b"/>
            <a:pathLst>
              <a:path w="1344" h="864">
                <a:moveTo>
                  <a:pt x="0" y="864"/>
                </a:moveTo>
                <a:lnTo>
                  <a:pt x="384" y="672"/>
                </a:lnTo>
                <a:lnTo>
                  <a:pt x="864" y="384"/>
                </a:lnTo>
                <a:lnTo>
                  <a:pt x="1248" y="96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2286000"/>
            <a:ext cx="2209680" cy="1447920"/>
          </a:xfrm>
          <a:custGeom>
            <a:avLst/>
            <a:gdLst/>
            <a:ahLst/>
            <a:rect l="l" t="t" r="r" b="b"/>
            <a:pathLst>
              <a:path w="1344" h="960">
                <a:moveTo>
                  <a:pt x="0" y="960"/>
                </a:moveTo>
                <a:lnTo>
                  <a:pt x="384" y="768"/>
                </a:lnTo>
                <a:lnTo>
                  <a:pt x="672" y="528"/>
                </a:lnTo>
                <a:lnTo>
                  <a:pt x="1104" y="24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91120" y="2514600"/>
            <a:ext cx="2057400" cy="1600200"/>
          </a:xfrm>
          <a:custGeom>
            <a:avLst/>
            <a:gdLst/>
            <a:ahLst/>
            <a:rect l="l" t="t" r="r" b="b"/>
            <a:pathLst>
              <a:path w="1296" h="1008">
                <a:moveTo>
                  <a:pt x="0" y="1008"/>
                </a:moveTo>
                <a:lnTo>
                  <a:pt x="384" y="720"/>
                </a:lnTo>
                <a:lnTo>
                  <a:pt x="912" y="384"/>
                </a:lnTo>
                <a:lnTo>
                  <a:pt x="1152" y="144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2666880"/>
            <a:ext cx="2133720" cy="1295640"/>
          </a:xfrm>
          <a:custGeom>
            <a:avLst/>
            <a:gdLst/>
            <a:ahLst/>
            <a:rect l="l" t="t" r="r" b="b"/>
            <a:pathLst>
              <a:path w="1392" h="816">
                <a:moveTo>
                  <a:pt x="1392" y="816"/>
                </a:moveTo>
                <a:lnTo>
                  <a:pt x="1200" y="720"/>
                </a:lnTo>
                <a:lnTo>
                  <a:pt x="816" y="528"/>
                </a:lnTo>
                <a:lnTo>
                  <a:pt x="432" y="28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2438280"/>
            <a:ext cx="2210040" cy="121932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1392" y="768"/>
                </a:moveTo>
                <a:lnTo>
                  <a:pt x="1200" y="672"/>
                </a:lnTo>
                <a:lnTo>
                  <a:pt x="864" y="480"/>
                </a:lnTo>
                <a:lnTo>
                  <a:pt x="480" y="28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2133720"/>
            <a:ext cx="2209680" cy="1143000"/>
          </a:xfrm>
          <a:custGeom>
            <a:avLst/>
            <a:gdLst/>
            <a:ahLst/>
            <a:rect l="l" t="t" r="r" b="b"/>
            <a:pathLst>
              <a:path w="1440" h="720">
                <a:moveTo>
                  <a:pt x="1440" y="720"/>
                </a:moveTo>
                <a:lnTo>
                  <a:pt x="1296" y="624"/>
                </a:lnTo>
                <a:lnTo>
                  <a:pt x="912" y="432"/>
                </a:lnTo>
                <a:lnTo>
                  <a:pt x="528" y="2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2285640" y="1904760"/>
            <a:ext cx="1080" cy="19054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2286000" y="3581280"/>
            <a:ext cx="220968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495680" y="3428640"/>
            <a:ext cx="21337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86000" y="3276720"/>
            <a:ext cx="533520" cy="32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9920" y="320040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3886200"/>
            <a:ext cx="18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02760" y="126036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zervacija lini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{R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52680" y="3962520"/>
            <a:ext cx="18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69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21320" y="4038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44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53240" y="3851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6764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9837200">
            <a:off x="5029560" y="4343040"/>
            <a:ext cx="23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erecenje centr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9680" y="281952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90720" y="2629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09680" y="304812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9680" y="327672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350532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77600" y="289548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3060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259092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09680" y="236232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09680" y="213372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3920" y="23623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656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468200">
            <a:off x="1441440" y="4419720"/>
            <a:ext cx="26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pesnost preusmeren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Untitled-Scanned-09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774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datak NOAA bio je da iz mreznih upravljackih racunara izoluje i dijagnostikuje neobicne dogadjaje na  mrezi, a onda predlozi iste korektivne savete kao sto bi to upravljacko osoblje ucinilo pod tim okolnosti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jeno je sa dva seta podataka na koje su primenjene razlicite tehnike uce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Zakljucak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nske mreze i lokalna aproksimacija su tehnike koje pokazuju dobru sposobnost generaliz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racunavanje funkcije R je jako tesko uraditi analiticki ali se to moze postici aproksimiranjem funkcije na osnovu prisutnih podat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ni predvidjac i neuronska mreza su dobri aproksima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ni predvidjac brze uci i nepostoji opasnost od razdesav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nska mreza daje bolje rezultate pri aproksimaciji funkcija koje nisu linearne funkcije svojih ula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ravdanost prolaza je kljucna tehnika za tesiranje sposobnosti ucenja I na osnovu nje je moguce uporediti razlizite metode ucen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RAVLJANJE MREZA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ezni upravljaci nadgledaju tel.mreze radi otkrivanja neobicnih stanja i dogadjaja na mrezi. Mogu preuzeti kontrolu nad mrezom radi preusmerenja saobracaja ili prekida ulaska u mrezu kada su uslovi alarmant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oje dva mrezna centra koji u zavisnosti od stanja onog drugog mogu preuzeti celokupnu kontrolu nad mrezom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. saobracaj se odvija putem grupa linija(trunk grups) i putem mreznih prekidaca koji preusmeravaju saobracaj(switching office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aci koji su dostupni mreznim upravljacima su u obliku trenutnog stanja linija,liniskih grupa i cvorova. Ovi podaci se ocitavaju svakih 5min. za linije a 30s za cvo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42670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251460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276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19051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20968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37160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7242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6483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220968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276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97" idx="5"/>
            <a:endCxn id="103" idx="6"/>
          </p:cNvCxnSpPr>
          <p:nvPr/>
        </p:nvCxnSpPr>
        <p:spPr>
          <a:xfrm>
            <a:off x="1817640" y="4331880"/>
            <a:ext cx="2145600" cy="4309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09" name=""/>
          <p:cNvCxnSpPr>
            <a:stCxn id="106" idx="3"/>
            <a:endCxn id="103" idx="6"/>
          </p:cNvCxnSpPr>
          <p:nvPr/>
        </p:nvCxnSpPr>
        <p:spPr>
          <a:xfrm flipH="1">
            <a:off x="3962160" y="3341160"/>
            <a:ext cx="164160" cy="14216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0" name=""/>
          <p:cNvCxnSpPr>
            <a:stCxn id="97" idx="4"/>
            <a:endCxn id="99" idx="6"/>
          </p:cNvCxnSpPr>
          <p:nvPr/>
        </p:nvCxnSpPr>
        <p:spPr>
          <a:xfrm flipV="1">
            <a:off x="1790640" y="3314520"/>
            <a:ext cx="115200" cy="1028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1" name=""/>
          <p:cNvCxnSpPr>
            <a:stCxn id="100" idx="7"/>
            <a:endCxn id="101" idx="6"/>
          </p:cNvCxnSpPr>
          <p:nvPr/>
        </p:nvCxnSpPr>
        <p:spPr>
          <a:xfrm>
            <a:off x="1360440" y="1915920"/>
            <a:ext cx="1535760" cy="3322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2" name=""/>
          <p:cNvCxnSpPr>
            <a:stCxn id="101" idx="6"/>
            <a:endCxn id="102" idx="3"/>
          </p:cNvCxnSpPr>
          <p:nvPr/>
        </p:nvCxnSpPr>
        <p:spPr>
          <a:xfrm flipV="1">
            <a:off x="2895120" y="1436040"/>
            <a:ext cx="1383480" cy="81180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3" name=""/>
          <p:cNvCxnSpPr>
            <a:stCxn id="102" idx="3"/>
            <a:endCxn id="98" idx="4"/>
          </p:cNvCxnSpPr>
          <p:nvPr/>
        </p:nvCxnSpPr>
        <p:spPr>
          <a:xfrm>
            <a:off x="4277880" y="1436760"/>
            <a:ext cx="1399320" cy="1154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4" name=""/>
          <p:cNvCxnSpPr>
            <a:stCxn id="98" idx="4"/>
            <a:endCxn id="107" idx="7"/>
          </p:cNvCxnSpPr>
          <p:nvPr/>
        </p:nvCxnSpPr>
        <p:spPr>
          <a:xfrm>
            <a:off x="5676840" y="2590560"/>
            <a:ext cx="332640" cy="130716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5" name=""/>
          <p:cNvCxnSpPr>
            <a:stCxn id="103" idx="7"/>
            <a:endCxn id="104" idx="4"/>
          </p:cNvCxnSpPr>
          <p:nvPr/>
        </p:nvCxnSpPr>
        <p:spPr>
          <a:xfrm flipV="1">
            <a:off x="3951360" y="4723560"/>
            <a:ext cx="1954800" cy="11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6" name=""/>
          <p:cNvCxnSpPr>
            <a:stCxn id="106" idx="5"/>
            <a:endCxn id="98" idx="1"/>
          </p:cNvCxnSpPr>
          <p:nvPr/>
        </p:nvCxnSpPr>
        <p:spPr>
          <a:xfrm flipV="1">
            <a:off x="4179600" y="2525400"/>
            <a:ext cx="1470240" cy="8164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7" name=""/>
          <p:cNvCxnSpPr>
            <a:stCxn id="107" idx="4"/>
            <a:endCxn id="106" idx="5"/>
          </p:cNvCxnSpPr>
          <p:nvPr/>
        </p:nvCxnSpPr>
        <p:spPr>
          <a:xfrm flipH="1" flipV="1">
            <a:off x="4179240" y="3340800"/>
            <a:ext cx="1802520" cy="6217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8" name=""/>
          <p:cNvCxnSpPr>
            <a:stCxn id="100" idx="5"/>
            <a:endCxn id="99" idx="0"/>
          </p:cNvCxnSpPr>
          <p:nvPr/>
        </p:nvCxnSpPr>
        <p:spPr>
          <a:xfrm>
            <a:off x="1360080" y="1969920"/>
            <a:ext cx="506880" cy="13075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19" name=""/>
          <p:cNvCxnSpPr>
            <a:stCxn id="100" idx="3"/>
            <a:endCxn id="106" idx="3"/>
          </p:cNvCxnSpPr>
          <p:nvPr/>
        </p:nvCxnSpPr>
        <p:spPr>
          <a:xfrm>
            <a:off x="1306440" y="1969920"/>
            <a:ext cx="2820240" cy="13723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20" name=""/>
          <p:cNvCxnSpPr>
            <a:stCxn id="99" idx="6"/>
            <a:endCxn id="106" idx="6"/>
          </p:cNvCxnSpPr>
          <p:nvPr/>
        </p:nvCxnSpPr>
        <p:spPr>
          <a:xfrm>
            <a:off x="1905120" y="3314520"/>
            <a:ext cx="2286720" cy="10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21" name=""/>
          <p:cNvCxnSpPr>
            <a:stCxn id="107" idx="6"/>
            <a:endCxn id="103" idx="6"/>
          </p:cNvCxnSpPr>
          <p:nvPr/>
        </p:nvCxnSpPr>
        <p:spPr>
          <a:xfrm flipH="1">
            <a:off x="3962160" y="3924360"/>
            <a:ext cx="2057760" cy="83880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22" name=""/>
          <p:cNvCxnSpPr>
            <a:stCxn id="102" idx="4"/>
            <a:endCxn id="106" idx="7"/>
          </p:cNvCxnSpPr>
          <p:nvPr/>
        </p:nvCxnSpPr>
        <p:spPr>
          <a:xfrm flipH="1">
            <a:off x="4179600" y="1447560"/>
            <a:ext cx="126000" cy="18406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23" name=""/>
          <p:cNvCxnSpPr>
            <a:stCxn id="97" idx="6"/>
            <a:endCxn id="106" idx="5"/>
          </p:cNvCxnSpPr>
          <p:nvPr/>
        </p:nvCxnSpPr>
        <p:spPr>
          <a:xfrm flipV="1">
            <a:off x="1828440" y="3340800"/>
            <a:ext cx="2351880" cy="9644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24" name=""/>
          <p:cNvCxnSpPr>
            <a:stCxn id="99" idx="5"/>
            <a:endCxn id="103" idx="6"/>
          </p:cNvCxnSpPr>
          <p:nvPr/>
        </p:nvCxnSpPr>
        <p:spPr>
          <a:xfrm>
            <a:off x="1893960" y="3341160"/>
            <a:ext cx="2069280" cy="14216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sp>
        <p:nvSpPr>
          <p:cNvPr id="125" name=""/>
          <p:cNvSpPr/>
          <p:nvPr/>
        </p:nvSpPr>
        <p:spPr>
          <a:xfrm flipH="1">
            <a:off x="2209680" y="1143000"/>
            <a:ext cx="6098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114300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114300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09880" y="4876560"/>
            <a:ext cx="763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09880" y="4800240"/>
            <a:ext cx="20574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828440" y="4419360"/>
            <a:ext cx="19810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01" idx="4"/>
            <a:endCxn id="106" idx="3"/>
          </p:cNvCxnSpPr>
          <p:nvPr/>
        </p:nvCxnSpPr>
        <p:spPr>
          <a:xfrm>
            <a:off x="2857320" y="2286000"/>
            <a:ext cx="1269000" cy="10562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32" name=""/>
          <p:cNvCxnSpPr>
            <a:stCxn id="104" idx="5"/>
            <a:endCxn id="105" idx="4"/>
          </p:cNvCxnSpPr>
          <p:nvPr/>
        </p:nvCxnSpPr>
        <p:spPr>
          <a:xfrm flipV="1">
            <a:off x="5932080" y="2285640"/>
            <a:ext cx="1040760" cy="24278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33" name=""/>
          <p:cNvCxnSpPr>
            <a:stCxn id="98" idx="5"/>
            <a:endCxn id="105" idx="5"/>
          </p:cNvCxnSpPr>
          <p:nvPr/>
        </p:nvCxnSpPr>
        <p:spPr>
          <a:xfrm flipV="1">
            <a:off x="5703840" y="2274120"/>
            <a:ext cx="1296000" cy="3056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34" name=""/>
          <p:cNvCxnSpPr>
            <a:stCxn id="107" idx="5"/>
            <a:endCxn id="105" idx="6"/>
          </p:cNvCxnSpPr>
          <p:nvPr/>
        </p:nvCxnSpPr>
        <p:spPr>
          <a:xfrm flipV="1">
            <a:off x="6008760" y="2247480"/>
            <a:ext cx="1002240" cy="17042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2345760" y="5908680"/>
            <a:ext cx="406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RALE(switching offi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ezni prekida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9960" y="4986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IJE(links,tru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ogadjaji i stanja na mrezi od interes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980"/>
                </a:solidFill>
                <a:latin typeface="Times New Roman"/>
              </a:rPr>
              <a:t>Slucajno preopterecenje lin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980"/>
                </a:solidFill>
                <a:latin typeface="Times New Roman"/>
              </a:rPr>
              <a:t>Fokusirano preopterecenje izazvano mnostvom poz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980"/>
                </a:solidFill>
                <a:latin typeface="Times New Roman"/>
              </a:rPr>
              <a:t>Datumi i dani(Bozic,Nova godi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980"/>
                </a:solidFill>
                <a:latin typeface="Times New Roman"/>
              </a:rPr>
              <a:t>Zemljot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980"/>
                </a:solidFill>
                <a:latin typeface="Times New Roman"/>
              </a:rPr>
              <a:t>Gubitak centrale(switching offi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980"/>
                </a:solidFill>
                <a:latin typeface="Times New Roman"/>
              </a:rPr>
              <a:t>Prekidi linija(links,tru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3480" y="541008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59680" y="365760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9440" y="4419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16280" y="3048120"/>
            <a:ext cx="7596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40160" y="33526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88080" y="251460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6840" y="58672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88280" y="5791320"/>
            <a:ext cx="7596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4960" y="33526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35440" y="4419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64240" y="502920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39" idx="5"/>
            <a:endCxn id="145" idx="6"/>
          </p:cNvCxnSpPr>
          <p:nvPr/>
        </p:nvCxnSpPr>
        <p:spPr>
          <a:xfrm>
            <a:off x="2438280" y="5474880"/>
            <a:ext cx="2145600" cy="4309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51" name=""/>
          <p:cNvCxnSpPr>
            <a:stCxn id="148" idx="3"/>
            <a:endCxn id="145" idx="6"/>
          </p:cNvCxnSpPr>
          <p:nvPr/>
        </p:nvCxnSpPr>
        <p:spPr>
          <a:xfrm flipH="1">
            <a:off x="4582800" y="4484160"/>
            <a:ext cx="164160" cy="14216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52" name=""/>
          <p:cNvCxnSpPr>
            <a:stCxn id="139" idx="4"/>
            <a:endCxn id="141" idx="6"/>
          </p:cNvCxnSpPr>
          <p:nvPr/>
        </p:nvCxnSpPr>
        <p:spPr>
          <a:xfrm flipV="1">
            <a:off x="2411280" y="4457520"/>
            <a:ext cx="115200" cy="1028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53" name=""/>
          <p:cNvCxnSpPr>
            <a:stCxn id="142" idx="7"/>
            <a:endCxn id="143" idx="6"/>
          </p:cNvCxnSpPr>
          <p:nvPr/>
        </p:nvCxnSpPr>
        <p:spPr>
          <a:xfrm>
            <a:off x="1980720" y="3058920"/>
            <a:ext cx="1536120" cy="3322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54" name=""/>
          <p:cNvCxnSpPr>
            <a:stCxn id="143" idx="6"/>
            <a:endCxn id="144" idx="3"/>
          </p:cNvCxnSpPr>
          <p:nvPr/>
        </p:nvCxnSpPr>
        <p:spPr>
          <a:xfrm flipV="1">
            <a:off x="3516480" y="2579040"/>
            <a:ext cx="1383120" cy="81180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55" name=""/>
          <p:cNvCxnSpPr>
            <a:stCxn id="144" idx="3"/>
            <a:endCxn id="140" idx="4"/>
          </p:cNvCxnSpPr>
          <p:nvPr/>
        </p:nvCxnSpPr>
        <p:spPr>
          <a:xfrm>
            <a:off x="4898520" y="2579760"/>
            <a:ext cx="1399320" cy="1154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56" name=""/>
          <p:cNvCxnSpPr>
            <a:stCxn id="140" idx="4"/>
            <a:endCxn id="149" idx="7"/>
          </p:cNvCxnSpPr>
          <p:nvPr/>
        </p:nvCxnSpPr>
        <p:spPr>
          <a:xfrm>
            <a:off x="6297480" y="3733560"/>
            <a:ext cx="332640" cy="130716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57" name=""/>
          <p:cNvCxnSpPr>
            <a:stCxn id="145" idx="7"/>
            <a:endCxn id="146" idx="4"/>
          </p:cNvCxnSpPr>
          <p:nvPr/>
        </p:nvCxnSpPr>
        <p:spPr>
          <a:xfrm flipV="1">
            <a:off x="4572000" y="5866560"/>
            <a:ext cx="1954800" cy="118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58" name=""/>
          <p:cNvCxnSpPr>
            <a:stCxn id="148" idx="5"/>
            <a:endCxn id="140" idx="1"/>
          </p:cNvCxnSpPr>
          <p:nvPr/>
        </p:nvCxnSpPr>
        <p:spPr>
          <a:xfrm flipV="1">
            <a:off x="4800240" y="3668400"/>
            <a:ext cx="1470240" cy="8164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59" name=""/>
          <p:cNvCxnSpPr>
            <a:stCxn id="149" idx="4"/>
            <a:endCxn id="148" idx="5"/>
          </p:cNvCxnSpPr>
          <p:nvPr/>
        </p:nvCxnSpPr>
        <p:spPr>
          <a:xfrm flipH="1" flipV="1">
            <a:off x="4799880" y="4483800"/>
            <a:ext cx="1802520" cy="6217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60" name=""/>
          <p:cNvCxnSpPr>
            <a:stCxn id="142" idx="5"/>
            <a:endCxn id="141" idx="0"/>
          </p:cNvCxnSpPr>
          <p:nvPr/>
        </p:nvCxnSpPr>
        <p:spPr>
          <a:xfrm>
            <a:off x="1980720" y="3112920"/>
            <a:ext cx="506880" cy="13075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61" name=""/>
          <p:cNvCxnSpPr>
            <a:stCxn id="142" idx="3"/>
            <a:endCxn id="148" idx="3"/>
          </p:cNvCxnSpPr>
          <p:nvPr/>
        </p:nvCxnSpPr>
        <p:spPr>
          <a:xfrm>
            <a:off x="1927080" y="3112920"/>
            <a:ext cx="2820240" cy="13723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62" name=""/>
          <p:cNvCxnSpPr>
            <a:stCxn id="141" idx="6"/>
            <a:endCxn id="148" idx="6"/>
          </p:cNvCxnSpPr>
          <p:nvPr/>
        </p:nvCxnSpPr>
        <p:spPr>
          <a:xfrm>
            <a:off x="2525760" y="4457520"/>
            <a:ext cx="2286720" cy="10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63" name=""/>
          <p:cNvCxnSpPr>
            <a:stCxn id="149" idx="6"/>
            <a:endCxn id="145" idx="6"/>
          </p:cNvCxnSpPr>
          <p:nvPr/>
        </p:nvCxnSpPr>
        <p:spPr>
          <a:xfrm flipH="1">
            <a:off x="4582800" y="5067360"/>
            <a:ext cx="2057760" cy="83880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64" name=""/>
          <p:cNvCxnSpPr>
            <a:stCxn id="144" idx="4"/>
            <a:endCxn id="148" idx="7"/>
          </p:cNvCxnSpPr>
          <p:nvPr/>
        </p:nvCxnSpPr>
        <p:spPr>
          <a:xfrm flipH="1">
            <a:off x="4800240" y="2590560"/>
            <a:ext cx="126000" cy="18406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65" name=""/>
          <p:cNvCxnSpPr>
            <a:stCxn id="139" idx="6"/>
            <a:endCxn id="148" idx="5"/>
          </p:cNvCxnSpPr>
          <p:nvPr/>
        </p:nvCxnSpPr>
        <p:spPr>
          <a:xfrm flipV="1">
            <a:off x="2449080" y="4483800"/>
            <a:ext cx="2351880" cy="9644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66" name=""/>
          <p:cNvCxnSpPr>
            <a:stCxn id="141" idx="5"/>
            <a:endCxn id="145" idx="6"/>
          </p:cNvCxnSpPr>
          <p:nvPr/>
        </p:nvCxnSpPr>
        <p:spPr>
          <a:xfrm>
            <a:off x="2514600" y="4484160"/>
            <a:ext cx="2069280" cy="14216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67" name=""/>
          <p:cNvCxnSpPr>
            <a:stCxn id="143" idx="4"/>
            <a:endCxn id="148" idx="3"/>
          </p:cNvCxnSpPr>
          <p:nvPr/>
        </p:nvCxnSpPr>
        <p:spPr>
          <a:xfrm>
            <a:off x="3477960" y="3429000"/>
            <a:ext cx="1269000" cy="10562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68" name=""/>
          <p:cNvCxnSpPr>
            <a:stCxn id="146" idx="5"/>
            <a:endCxn id="147" idx="4"/>
          </p:cNvCxnSpPr>
          <p:nvPr/>
        </p:nvCxnSpPr>
        <p:spPr>
          <a:xfrm flipV="1">
            <a:off x="6552720" y="3428640"/>
            <a:ext cx="1040760" cy="24278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69" name=""/>
          <p:cNvCxnSpPr>
            <a:stCxn id="140" idx="5"/>
            <a:endCxn id="147" idx="5"/>
          </p:cNvCxnSpPr>
          <p:nvPr/>
        </p:nvCxnSpPr>
        <p:spPr>
          <a:xfrm flipV="1">
            <a:off x="6324120" y="3417120"/>
            <a:ext cx="1296360" cy="3056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70" name=""/>
          <p:cNvCxnSpPr>
            <a:stCxn id="149" idx="5"/>
            <a:endCxn id="147" idx="6"/>
          </p:cNvCxnSpPr>
          <p:nvPr/>
        </p:nvCxnSpPr>
        <p:spPr>
          <a:xfrm flipV="1">
            <a:off x="6629040" y="3390480"/>
            <a:ext cx="1002600" cy="17042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904760" y="762120"/>
            <a:ext cx="52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Slucajno preopterecenj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3733920"/>
            <a:ext cx="1371600" cy="1371600"/>
          </a:xfrm>
          <a:prstGeom prst="ellipse">
            <a:avLst/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609480"/>
            <a:ext cx="6324480" cy="1219320"/>
          </a:xfrm>
          <a:prstGeom prst="wedgeRoundRectCallout">
            <a:avLst>
              <a:gd name="adj1" fmla="val 7504"/>
              <a:gd name="adj2" fmla="val 201824"/>
              <a:gd name="adj3" fmla="val 16667"/>
            </a:avLst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73480" y="541008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59680" y="365760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49440" y="4419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16280" y="3048120"/>
            <a:ext cx="7596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40160" y="33526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8080" y="2514600"/>
            <a:ext cx="7596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6840" y="58672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88280" y="5791320"/>
            <a:ext cx="7596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4960" y="335268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35440" y="4419720"/>
            <a:ext cx="76320" cy="759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64240" y="5029200"/>
            <a:ext cx="76320" cy="763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74" idx="5"/>
            <a:endCxn id="180" idx="6"/>
          </p:cNvCxnSpPr>
          <p:nvPr/>
        </p:nvCxnSpPr>
        <p:spPr>
          <a:xfrm>
            <a:off x="2438280" y="5474880"/>
            <a:ext cx="2145600" cy="43092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86" name=""/>
          <p:cNvCxnSpPr>
            <a:stCxn id="183" idx="3"/>
            <a:endCxn id="180" idx="6"/>
          </p:cNvCxnSpPr>
          <p:nvPr/>
        </p:nvCxnSpPr>
        <p:spPr>
          <a:xfrm flipH="1">
            <a:off x="4582800" y="4484160"/>
            <a:ext cx="164160" cy="14216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87" name=""/>
          <p:cNvCxnSpPr>
            <a:stCxn id="174" idx="4"/>
            <a:endCxn id="176" idx="6"/>
          </p:cNvCxnSpPr>
          <p:nvPr/>
        </p:nvCxnSpPr>
        <p:spPr>
          <a:xfrm flipV="1">
            <a:off x="2411280" y="4457520"/>
            <a:ext cx="115200" cy="10288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88" name=""/>
          <p:cNvCxnSpPr>
            <a:stCxn id="177" idx="7"/>
            <a:endCxn id="178" idx="6"/>
          </p:cNvCxnSpPr>
          <p:nvPr/>
        </p:nvCxnSpPr>
        <p:spPr>
          <a:xfrm>
            <a:off x="1980720" y="3058920"/>
            <a:ext cx="1536120" cy="3322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89" name=""/>
          <p:cNvCxnSpPr>
            <a:stCxn id="178" idx="6"/>
            <a:endCxn id="179" idx="3"/>
          </p:cNvCxnSpPr>
          <p:nvPr/>
        </p:nvCxnSpPr>
        <p:spPr>
          <a:xfrm flipV="1">
            <a:off x="3516480" y="2579040"/>
            <a:ext cx="1383120" cy="81180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90" name=""/>
          <p:cNvCxnSpPr>
            <a:stCxn id="179" idx="3"/>
            <a:endCxn id="175" idx="4"/>
          </p:cNvCxnSpPr>
          <p:nvPr/>
        </p:nvCxnSpPr>
        <p:spPr>
          <a:xfrm>
            <a:off x="4898520" y="2579760"/>
            <a:ext cx="1399320" cy="11548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91" name=""/>
          <p:cNvCxnSpPr>
            <a:stCxn id="175" idx="4"/>
            <a:endCxn id="184" idx="7"/>
          </p:cNvCxnSpPr>
          <p:nvPr/>
        </p:nvCxnSpPr>
        <p:spPr>
          <a:xfrm>
            <a:off x="6297480" y="3733560"/>
            <a:ext cx="332640" cy="130716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92" name=""/>
          <p:cNvCxnSpPr>
            <a:stCxn id="180" idx="7"/>
            <a:endCxn id="181" idx="4"/>
          </p:cNvCxnSpPr>
          <p:nvPr/>
        </p:nvCxnSpPr>
        <p:spPr>
          <a:xfrm flipV="1">
            <a:off x="4572000" y="5866560"/>
            <a:ext cx="1954800" cy="118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93" name=""/>
          <p:cNvCxnSpPr>
            <a:stCxn id="183" idx="5"/>
            <a:endCxn id="175" idx="1"/>
          </p:cNvCxnSpPr>
          <p:nvPr/>
        </p:nvCxnSpPr>
        <p:spPr>
          <a:xfrm flipV="1">
            <a:off x="4800240" y="3668400"/>
            <a:ext cx="1470240" cy="8164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94" name=""/>
          <p:cNvCxnSpPr>
            <a:stCxn id="184" idx="4"/>
            <a:endCxn id="183" idx="5"/>
          </p:cNvCxnSpPr>
          <p:nvPr/>
        </p:nvCxnSpPr>
        <p:spPr>
          <a:xfrm flipH="1" flipV="1">
            <a:off x="4799880" y="4483800"/>
            <a:ext cx="1802520" cy="6217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95" name=""/>
          <p:cNvCxnSpPr>
            <a:stCxn id="177" idx="5"/>
            <a:endCxn id="176" idx="0"/>
          </p:cNvCxnSpPr>
          <p:nvPr/>
        </p:nvCxnSpPr>
        <p:spPr>
          <a:xfrm>
            <a:off x="1980720" y="3112920"/>
            <a:ext cx="506880" cy="13075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96" name=""/>
          <p:cNvCxnSpPr>
            <a:stCxn id="177" idx="3"/>
            <a:endCxn id="183" idx="3"/>
          </p:cNvCxnSpPr>
          <p:nvPr/>
        </p:nvCxnSpPr>
        <p:spPr>
          <a:xfrm>
            <a:off x="1927080" y="3112920"/>
            <a:ext cx="2820240" cy="137232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97" name=""/>
          <p:cNvCxnSpPr>
            <a:stCxn id="176" idx="6"/>
            <a:endCxn id="183" idx="6"/>
          </p:cNvCxnSpPr>
          <p:nvPr/>
        </p:nvCxnSpPr>
        <p:spPr>
          <a:xfrm>
            <a:off x="2525760" y="4457520"/>
            <a:ext cx="2286720" cy="108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198" name=""/>
          <p:cNvCxnSpPr>
            <a:stCxn id="184" idx="6"/>
            <a:endCxn id="180" idx="6"/>
          </p:cNvCxnSpPr>
          <p:nvPr/>
        </p:nvCxnSpPr>
        <p:spPr>
          <a:xfrm flipH="1">
            <a:off x="4582800" y="5067360"/>
            <a:ext cx="2057760" cy="83880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199" name=""/>
          <p:cNvCxnSpPr>
            <a:stCxn id="179" idx="4"/>
            <a:endCxn id="183" idx="7"/>
          </p:cNvCxnSpPr>
          <p:nvPr/>
        </p:nvCxnSpPr>
        <p:spPr>
          <a:xfrm flipH="1">
            <a:off x="4800240" y="2590560"/>
            <a:ext cx="126000" cy="184068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00" name=""/>
          <p:cNvCxnSpPr>
            <a:stCxn id="174" idx="6"/>
            <a:endCxn id="183" idx="5"/>
          </p:cNvCxnSpPr>
          <p:nvPr/>
        </p:nvCxnSpPr>
        <p:spPr>
          <a:xfrm flipV="1">
            <a:off x="2449080" y="4483800"/>
            <a:ext cx="2351880" cy="9644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01" name=""/>
          <p:cNvCxnSpPr>
            <a:stCxn id="176" idx="5"/>
            <a:endCxn id="180" idx="6"/>
          </p:cNvCxnSpPr>
          <p:nvPr/>
        </p:nvCxnSpPr>
        <p:spPr>
          <a:xfrm>
            <a:off x="2514600" y="4484160"/>
            <a:ext cx="2069280" cy="14216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02" name=""/>
          <p:cNvCxnSpPr>
            <a:stCxn id="178" idx="4"/>
            <a:endCxn id="183" idx="3"/>
          </p:cNvCxnSpPr>
          <p:nvPr/>
        </p:nvCxnSpPr>
        <p:spPr>
          <a:xfrm>
            <a:off x="3477960" y="3429000"/>
            <a:ext cx="1269000" cy="10562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03" name=""/>
          <p:cNvCxnSpPr>
            <a:stCxn id="181" idx="5"/>
            <a:endCxn id="182" idx="4"/>
          </p:cNvCxnSpPr>
          <p:nvPr/>
        </p:nvCxnSpPr>
        <p:spPr>
          <a:xfrm flipV="1">
            <a:off x="6552720" y="3428640"/>
            <a:ext cx="1040760" cy="24278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cxnSp>
        <p:nvCxnSpPr>
          <p:cNvPr id="204" name=""/>
          <p:cNvCxnSpPr>
            <a:stCxn id="175" idx="5"/>
            <a:endCxn id="182" idx="5"/>
          </p:cNvCxnSpPr>
          <p:nvPr/>
        </p:nvCxnSpPr>
        <p:spPr>
          <a:xfrm flipV="1">
            <a:off x="6324120" y="3417120"/>
            <a:ext cx="1296360" cy="305640"/>
          </a:xfrm>
          <a:prstGeom prst="straightConnector1">
            <a:avLst/>
          </a:prstGeom>
          <a:ln w="9360">
            <a:solidFill>
              <a:srgbClr val="ff0033"/>
            </a:solidFill>
            <a:miter/>
          </a:ln>
        </p:spPr>
      </p:cxnSp>
      <p:cxnSp>
        <p:nvCxnSpPr>
          <p:cNvPr id="205" name=""/>
          <p:cNvCxnSpPr>
            <a:stCxn id="184" idx="5"/>
            <a:endCxn id="182" idx="6"/>
          </p:cNvCxnSpPr>
          <p:nvPr/>
        </p:nvCxnSpPr>
        <p:spPr>
          <a:xfrm flipV="1">
            <a:off x="6629040" y="3390480"/>
            <a:ext cx="1002600" cy="1704240"/>
          </a:xfrm>
          <a:prstGeom prst="straightConnector1">
            <a:avLst/>
          </a:prstGeom>
          <a:ln w="9360">
            <a:solidFill>
              <a:srgbClr val="ffcc66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1828800" y="838080"/>
            <a:ext cx="55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Fokusirano preopterecen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2514600"/>
            <a:ext cx="1295280" cy="1295280"/>
          </a:xfrm>
          <a:prstGeom prst="ellipse">
            <a:avLst/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609480"/>
            <a:ext cx="6172200" cy="1219320"/>
          </a:xfrm>
          <a:prstGeom prst="wedgeRoundRectCallout">
            <a:avLst>
              <a:gd name="adj1" fmla="val -36240"/>
              <a:gd name="adj2" fmla="val 106120"/>
              <a:gd name="adj3" fmla="val 16667"/>
            </a:avLst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9:56:34Z</dcterms:created>
  <dc:creator>Milan</dc:creator>
  <dc:description/>
  <dc:language>en-US</dc:language>
  <cp:lastModifiedBy>Milan</cp:lastModifiedBy>
  <dcterms:modified xsi:type="dcterms:W3CDTF">2005-12-28T15:14:17Z</dcterms:modified>
  <cp:revision>19</cp:revision>
  <dc:subject/>
  <dc:title>NEURONSKE MREZE</dc:title>
</cp:coreProperties>
</file>