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263-2CAA-4B43-B9E3-805E2317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2BD-9D5C-4E0C-B2E0-0D7C4F72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7DE-7929-47AB-9C8D-84C5B8BD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329-B2B1-4FE8-9DFF-0AB8BD3F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438-E052-4F4C-AF1D-F281CA8B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480-6991-47D6-BC85-EBE66C0F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429-EA2B-46E2-81E0-26F254D4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A4A-A6D0-479D-8C7E-8BB66344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DAA-2DA7-40C7-900D-05CF9F0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B97-8325-4036-999C-FAA52497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AA9-8AE4-49AE-9A6B-13DC1A0B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772-3095-4AB5-806C-E541F9B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001B-4A19-4852-88E1-8AD4FE1E8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AGNOSTIKA OTKAZA U ANALOGNIM KO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EN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TAČKIH NEURONSK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RE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5120" y="609480"/>
            <a:ext cx="4572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24) -309.3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24) 215.1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24) 46.56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25) -316.7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25) 214.5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25) 41.85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)(3,1) -130.5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2)(3,1) 131.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3)(3,1) 8.274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4)(3,1) 10.06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5)(3,1) 1.804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6)(3,1) 13.86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7)(3,1) -1.03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8)(3,1) -11.89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9)(3,1) 13.68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0)(3,1) 12.42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1)(3,1) -15.33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2)(3,1) 15.69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3)(3,1) -0.416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4)(3,1) -0.4417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5)(3,1) 13.95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6)(3,1) 9.581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7)(3,1) 18.04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8)(3,1) 1.980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19)(3,1) 14.2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20)(3,1) 9.413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21)(3,1) 2.726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22)(3,1) -12.10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23)(3,1) -0.712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24)(3,1) 10.16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2,25)(3,1) -21.05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81080" y="533520"/>
            <a:ext cx="4572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resholds 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) 64.63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2) -232.7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3) 218.2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4) 230.0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5) 230.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6) 229.9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7) 228.5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8) 241.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9) 229.8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0) 229.4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1) 222.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2) 228.9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3) 222.2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4) 222.2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5) 223.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6) 230.4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7) 233.3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8) 223.9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19) 230.2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20) 228.8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21) 224.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22) 223.4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23) 216.3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24) 231.1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2,25) 217.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ta(3,1) -92.8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ti Obučavanja Neuronsk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514.251  27.884  0.379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0.022567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0.108292  1000  0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12.0015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74.811  283.29  1.5267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2.00072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82.566  286.185  1.5072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14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477.733  32.444  0.4248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4.00204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567.474  22.659  0.3211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15.0229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541.676  25.012  0.3482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6.03849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482.605  31.893  0.4185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6.99095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623.994  37.619  1.729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7.8033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545.579  24.771  0.344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13.0254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477.217  32.292  0.425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1.00562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487.471  31.196  0.411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{  10.9521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{  547.787  24.428  0.341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 {  3.02361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ZADAT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datu šemu operacionog pojačavača, realizovanog u CMOS tehnici, izvršiti simulaciju ispravnog kola korišćenjem programa PSP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tom implementirati modele navedenih defekata i obaviti simulaciju za svaki defek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ista defek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RATAK SPOJ 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RATAK SPOJ  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RATAK SPOJ  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K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K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J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+20%, L-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W+20%, W-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mulaciju defekata  obaviti  za tranzistore T8 i T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osnovu dobijenih rezultata, ob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ti neuronsku mreža koja će imati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gućnost prepoznavanja navedenih defek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EMA OPERACIONOG POJAČAV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709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ezultati Simulacije Ispravnog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5120" y="2286000"/>
          <a:ext cx="5257800" cy="1403280"/>
        </p:xfrm>
        <a:graphic>
          <a:graphicData uri="http://schemas.openxmlformats.org/drawingml/2006/table">
            <a:tbl>
              <a:tblPr/>
              <a:tblGrid>
                <a:gridCol w="1222200"/>
                <a:gridCol w="1406520"/>
                <a:gridCol w="1406520"/>
                <a:gridCol w="12225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l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jač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ič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kven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k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Nap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k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4.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8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3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REZULTATI SIMULACIJE KOLA SA DEFEKT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62320" y="609480"/>
          <a:ext cx="4572000" cy="6195960"/>
        </p:xfrm>
        <a:graphic>
          <a:graphicData uri="http://schemas.openxmlformats.org/drawingml/2006/table">
            <a:tbl>
              <a:tblPr/>
              <a:tblGrid>
                <a:gridCol w="915840"/>
                <a:gridCol w="836640"/>
                <a:gridCol w="990720"/>
                <a:gridCol w="914400"/>
                <a:gridCol w="9144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 Defek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jac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. Frekvencija (k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nap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d defek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S 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8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4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8E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kid 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.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2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kid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.1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+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7,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4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2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-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.4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+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1.6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-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.6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8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S 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3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KID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4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KID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4.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+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.5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7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-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7.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+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.4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-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.7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643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finisanje  Ulaznih i Izlaznih Veličina Neuronske Mre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514.251  27.884  0.379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0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0.108292  7.5468GHz  328.8E-9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1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74.811  283.29  1.5267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2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82.566 286.185  1.5072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3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477.733  32.444  0.4248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4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567.474  22.659  0.3211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5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541.676  25.012  0.3482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6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482.605  31.893  0.4185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7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623.994 37.619   1.729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8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514.547   28.086   0.379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9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514.439  27.697   0.379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10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545.579  24.771  0.344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11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477.217  32.292   0.425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12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487.471  31.196  0.411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13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{ 547.787  24.428   0.341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{ 14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čavanje Neuronske Mre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57200"/>
            <a:ext cx="45720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x_cycle  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_layer 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_of_neurons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l_min(1)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l_max(1) 623.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l_min(2)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l_max(2) 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l_min(3)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l_max(3) 1.7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den_layer 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_of_neurons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er_function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ype sigmoi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_layer 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_of_neur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er_function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ype lin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l_min(1)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l_max(1) 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47920" y="457200"/>
            <a:ext cx="457200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eights 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) -45.49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) 244.6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) -160.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2) 283.5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2) 921.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2) -84.49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3) -319.9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3) 214.8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3) 43.86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4) -311.6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4) 215.1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4) 47.01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5) -308.7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5) 215.1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5) 45.86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6) -311.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6) 215.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6) 46.80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7) -309.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7) 214.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7) 44.66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8) -296.4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8) 215.2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8) 46.17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9) -311.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9) 215.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9) 46.78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0) -311.5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0) 215.1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0) 46.6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1) -314.8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1) 214.8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1) 43.88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2) -314.1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2) 215.2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685800"/>
            <a:ext cx="457200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2) 47.31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3) -317.4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3) 214.9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3) 45.06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4) -317.4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4) 214.9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4) 45.07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5) -313.4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5) 214.9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5) 43.55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6) -310.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6) 215.1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6) 46.83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7) -303.4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7) 215.1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7) 45.86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8) -316.3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8) 215.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8) 45.55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19) -310.9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19) 215.2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19) 46.86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20) -312.6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20) 215.1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20) 46.74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21) -315.7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21) 215.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21) 45.49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22) -313.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22) 214.8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22) 44.11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1)(2,23) -313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2)(2,23) 214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(1,3)(2,23) 40.12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3:05:51Z</dcterms:created>
  <dc:creator> Lab62</dc:creator>
  <dc:description/>
  <dc:language>en-US</dc:language>
  <cp:lastModifiedBy>SC4</cp:lastModifiedBy>
  <dcterms:modified xsi:type="dcterms:W3CDTF">2005-12-28T15:03:09Z</dcterms:modified>
  <cp:revision>11</cp:revision>
  <dc:subject/>
  <dc:title>DIJAGNOSTIKA OTKAZA U ANALOGNIM KOLIMA</dc:title>
</cp:coreProperties>
</file>