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8AB4-AAAB-4976-AFA1-B36F738A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EFB4-F940-40B2-9724-4B95F993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A462-7CF6-4019-847B-56692CFC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80FC-C23F-4E14-8854-88DFFD66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53F0-87B7-40DE-AF00-306E44AF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2F18-4D25-43A5-95C4-982EB816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DDD8-111F-4A57-95D1-F6A017DD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5FEF-F109-4877-95B7-AE7191C3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355D-8739-4AAD-BCF1-CAB7CE64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F4B7-A4B1-4EA6-88E5-6F44EF5B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72FE-F893-4442-9370-84CA9236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43E1-8CAA-4A17-A968-60913726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9D2E-05E1-41A8-AA4D-E02C8D7D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B8A9-BE52-4276-98D5-68BBE27F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2FD7-AD17-43C7-B293-0C9E2B49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B38F-B41A-486D-8130-2E076A63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715C-A7F7-42B1-ABAB-FF995DB6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E0F95-A4B3-4DE8-B8C5-427926FA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03A34-FC78-4CF3-8148-16CA5A91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73C0-56AB-447B-9A2F-1C2C4CCB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DA61-C1DA-405D-B603-BC710E6B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0FFE-F32A-4E18-B289-D3906E6B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0DE8-9617-4464-94EB-552F8F0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1D32-79D6-4951-B595-8EABC157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F9F2-5820-4CAF-804A-CF4915A74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626C-3F5A-485A-B21D-2F7D12B61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39600" y="1828440"/>
            <a:ext cx="468324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Neuronske mre</a:t>
            </a:r>
            <a:r>
              <a:rPr b="1" lang="sr-Latn-CS" sz="4600" spc="-1" strike="noStrike">
                <a:solidFill>
                  <a:srgbClr val="ffffff"/>
                </a:solidFill>
                <a:latin typeface="Arial"/>
              </a:rPr>
              <a:t>ž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28800" y="42670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Obučavanje mreže za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jagnostiku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 defekata kašnjenj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Dejan Mirkov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Vladimir Petrov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762120"/>
          <a:ext cx="8229600" cy="5803920"/>
        </p:xfrm>
        <a:graphic>
          <a:graphicData uri="http://schemas.openxmlformats.org/drawingml/2006/table">
            <a:tbl>
              <a:tblPr/>
              <a:tblGrid>
                <a:gridCol w="866880"/>
                <a:gridCol w="2166840"/>
                <a:gridCol w="2597040"/>
                <a:gridCol w="2598840"/>
              </a:tblGrid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3(tr=4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04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3(tf=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108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3(tf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2202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3(tf=1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0018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4(tr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110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4(tr=4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04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4(tf=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804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4(tf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210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4(tf=1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24088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r=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0810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r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4020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r=1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1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f=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1105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f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8504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f=1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24309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762120"/>
          <a:ext cx="8228880" cy="5409720"/>
        </p:xfrm>
        <a:graphic>
          <a:graphicData uri="http://schemas.openxmlformats.org/drawingml/2006/table">
            <a:tbl>
              <a:tblPr/>
              <a:tblGrid>
                <a:gridCol w="866880"/>
                <a:gridCol w="2165760"/>
                <a:gridCol w="2598120"/>
                <a:gridCol w="259812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3(tr=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208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3(tr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04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3(tr=1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208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3(tf=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8044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3(tf=1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2408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4(tr=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8108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4(tr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0050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4(tr=1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40900C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4(tf=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210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4(tf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220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4(tf=1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8408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narednim koracima se vrši obučavanje mreže pomoću softverskog alata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LearnNe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testiranje rada pomoću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RunNe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plika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 osnovu generisane greške vrši se korekcija parametara mreže (broj neurona u skrivenom sloju, težine veza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w(i, j)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 uslovi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čina kodiranja defekata)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estirano kolo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igma-delt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dulatora optimalno rešenje je postignuto za sledeće parametre mreže sa jednim skrivenim sloj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broj ulaznih neurona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broj neurona u skrivenom sloju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greška reda 10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težine pojedinih veza i pragovi aktivaci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dati su na slede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 slaj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80880" y="533520"/>
          <a:ext cx="8229600" cy="6029280"/>
        </p:xfrm>
        <a:graphic>
          <a:graphicData uri="http://schemas.openxmlformats.org/drawingml/2006/table">
            <a:tbl>
              <a:tblPr/>
              <a:tblGrid>
                <a:gridCol w="4413240"/>
                <a:gridCol w="3816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1)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.340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2)(2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.84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3)(2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3.64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4)(2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1.37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5)(2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1.99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6)(2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.45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7)(2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31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8)(2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.59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9)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2.30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1)(2,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5.229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2)(2,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11.3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3)(2,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19.5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4)(2,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7514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5)(2,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.026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6)(2,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.15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7)(2,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.09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8)(2,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8.339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9)(2,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2.03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57200" y="457200"/>
          <a:ext cx="8229600" cy="6029280"/>
        </p:xfrm>
        <a:graphic>
          <a:graphicData uri="http://schemas.openxmlformats.org/drawingml/2006/table">
            <a:tbl>
              <a:tblPr/>
              <a:tblGrid>
                <a:gridCol w="4413240"/>
                <a:gridCol w="3816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1)(2,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.53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2)(2,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2.4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3)(2,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24.18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4)(2,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4.44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5)(2,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.51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6)(2,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8.220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7)(2,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3.34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8)(2,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2.69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9)(2,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20.1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1)(2,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0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2)(2,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.90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3)(2,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2.67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4)(2,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475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5)(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1122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6)(2,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38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7)(2,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2715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8)(2,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685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9)(2,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865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33520" y="533520"/>
          <a:ext cx="8229600" cy="6029280"/>
        </p:xfrm>
        <a:graphic>
          <a:graphicData uri="http://schemas.openxmlformats.org/drawingml/2006/table">
            <a:tbl>
              <a:tblPr/>
              <a:tblGrid>
                <a:gridCol w="4413240"/>
                <a:gridCol w="3816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1)(2,5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057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2)(2,5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.90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3)(2,5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2.67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4)(2,5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475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5)(2,5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1119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6)(2,5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38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7)(2,5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2693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8)(2,5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68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9)(2,5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8648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1)(2,6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13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2)(2,6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.579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3)(2,6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2.544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4)(2,6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5199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5)(2,6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16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6)(2,6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36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7)(2,6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695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8)(2,6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64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9)(2,6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9624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57200" y="380880"/>
          <a:ext cx="8305920" cy="1219320"/>
        </p:xfrm>
        <a:graphic>
          <a:graphicData uri="http://schemas.openxmlformats.org/drawingml/2006/table">
            <a:tbl>
              <a:tblPr/>
              <a:tblGrid>
                <a:gridCol w="4495680"/>
                <a:gridCol w="38102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1)(2,7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10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2)(2,7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.73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3)(2,7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2.59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7200" y="1600200"/>
          <a:ext cx="8305920" cy="5024520"/>
        </p:xfrm>
        <a:graphic>
          <a:graphicData uri="http://schemas.openxmlformats.org/drawingml/2006/table">
            <a:tbl>
              <a:tblPr/>
              <a:tblGrid>
                <a:gridCol w="4495680"/>
                <a:gridCol w="381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4)(2,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50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5)(2,7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1425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6)(2,7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376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7)(2,7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491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8)(2,7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66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9)(2,7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907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1)(2,8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831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2)(2,8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.14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3)(2,8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3.060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4)(2,8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1.547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5)(2,8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565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6)(2,8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1666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7)(2,8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988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8)(2,8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19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9)(2,8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805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457200"/>
          <a:ext cx="8229600" cy="6321600"/>
        </p:xfrm>
        <a:graphic>
          <a:graphicData uri="http://schemas.openxmlformats.org/drawingml/2006/table">
            <a:tbl>
              <a:tblPr/>
              <a:tblGrid>
                <a:gridCol w="4487760"/>
                <a:gridCol w="3741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1)(2,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15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2)(2,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.42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3)(2,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2.5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4)(2,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5403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5)(2,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174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6)(2,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330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7)(2,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8903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8)(2,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6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9)(2,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02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1)(2,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099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2)(2,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.74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3)(2,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2.6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4)(2,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49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5)(2,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140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6)(2,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3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7)(2,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4773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8)(2,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668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1,9)(2,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904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33520" y="685800"/>
          <a:ext cx="8228160" cy="5181120"/>
        </p:xfrm>
        <a:graphic>
          <a:graphicData uri="http://schemas.openxmlformats.org/drawingml/2006/table">
            <a:tbl>
              <a:tblPr/>
              <a:tblGrid>
                <a:gridCol w="4487400"/>
                <a:gridCol w="374076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2,1)(3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.380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2,2)(3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.19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2,3)(3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.129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2,4)(3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1.057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2,5)(3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1.058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2,6)(3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842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2,7)(3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933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2,8)(3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851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2,9)(3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777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(2,10)(3,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940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ed većeg broja primena, neuronske mreže se mogu koristiti za detektovanje efekata defekata kašnj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 obučavanja mreže se sastoji u formiranju tabele čiji elementi predstavljaju logička stanja realnog kola (jedinice koja se testira) sa defek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akav skup stanja će predstavljati ulaze obučavane neuronske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ela prag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981080"/>
          <a:ext cx="8229600" cy="40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heta(2,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275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heta(2,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4.120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heta(2,3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1674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heta(2,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0950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heta(2,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09487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heta(2,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09007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heta(2,7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09994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heta(2,8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0.7288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heta(2,9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0641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heta(2,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100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heta(3,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814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narednim slajdovima prikazani su rezutati obučavanja kao i simbolička šema predhodno formirane mrež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zultati sadrže uporedne karakteristike idealnog ( željenog  ) i realnog odziva neuronske mreže dobijenog postupkom obučavan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gled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zultati obuč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523880"/>
          <a:ext cx="4648320" cy="4556160"/>
        </p:xfrm>
        <a:graphic>
          <a:graphicData uri="http://schemas.openxmlformats.org/drawingml/2006/table">
            <a:tbl>
              <a:tblPr/>
              <a:tblGrid>
                <a:gridCol w="2743200"/>
                <a:gridCol w="1905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az ( input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eljeni odz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05520" y="1523880"/>
          <a:ext cx="3047400" cy="4556160"/>
        </p:xfrm>
        <a:graphic>
          <a:graphicData uri="http://schemas.openxmlformats.org/drawingml/2006/table">
            <a:tbl>
              <a:tblPr/>
              <a:tblGrid>
                <a:gridCol w="304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ziv mreže (output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0212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99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99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99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9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0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533520" y="762120"/>
          <a:ext cx="5181480" cy="5467320"/>
        </p:xfrm>
        <a:graphic>
          <a:graphicData uri="http://schemas.openxmlformats.org/drawingml/2006/table">
            <a:tbl>
              <a:tblPr/>
              <a:tblGrid>
                <a:gridCol w="3200400"/>
                <a:gridCol w="1981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715000" y="762120"/>
          <a:ext cx="2285640" cy="5467320"/>
        </p:xfrm>
        <a:graphic>
          <a:graphicData uri="http://schemas.openxmlformats.org/drawingml/2006/table">
            <a:tbl>
              <a:tblPr/>
              <a:tblGrid>
                <a:gridCol w="2285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9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99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99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99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0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99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999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99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762120"/>
          <a:ext cx="5334120" cy="5467320"/>
        </p:xfrm>
        <a:graphic>
          <a:graphicData uri="http://schemas.openxmlformats.org/drawingml/2006/table">
            <a:tbl>
              <a:tblPr/>
              <a:tblGrid>
                <a:gridCol w="3353040"/>
                <a:gridCol w="1981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715000" y="762120"/>
          <a:ext cx="2362320" cy="546732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9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9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457200" y="1828800"/>
          <a:ext cx="5257800" cy="3886200"/>
        </p:xfrm>
        <a:graphic>
          <a:graphicData uri="http://schemas.openxmlformats.org/drawingml/2006/table">
            <a:tbl>
              <a:tblPr/>
              <a:tblGrid>
                <a:gridCol w="3352680"/>
                <a:gridCol w="1905120"/>
              </a:tblGrid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715000" y="1828800"/>
          <a:ext cx="2209320" cy="3885840"/>
        </p:xfrm>
        <a:graphic>
          <a:graphicData uri="http://schemas.openxmlformats.org/drawingml/2006/table">
            <a:tbl>
              <a:tblPr/>
              <a:tblGrid>
                <a:gridCol w="2209320"/>
              </a:tblGrid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97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9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9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9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9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aci prilikom obučav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iranje kola u prisustvu defekata kašnjenja prednje i zadnje i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isivanje rezultata u tabelu za obuč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diranje prethodno dobijenih rezul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učavanje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ledavanje greške i eventualna kore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cija kola vršena je pomoću simulator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ec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ko sto je za svako logičko kolo unošeno odgovarajuće kašnjenje prednje i zadnje i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ko u kolu postoji serijski izlaz (jednobitni sigma-delta modulator prikazan na sledećem slajdu), uzeto je da se za svaki defekt formira 40-bit-na sekveca. Svaki bit je generisan na rastuću ivicu tak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 ovih binarnih sekvenci se formiraju odgovarajuće heksadecimalne reči, koje će se kasnije koristiti za obučavanje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89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ema kola koje se testi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D kol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1752480"/>
          <a:ext cx="7010640" cy="4599000"/>
        </p:xfrm>
        <a:graphic>
          <a:graphicData uri="http://schemas.openxmlformats.org/drawingml/2006/table">
            <a:tbl>
              <a:tblPr/>
              <a:tblGrid>
                <a:gridCol w="1683000"/>
                <a:gridCol w="3313080"/>
                <a:gridCol w="20145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fault(na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ult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440480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r=10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4889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r=25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494631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r=40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C352C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f=5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011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f=10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800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f=15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0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0" y="591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47920" y="1828800"/>
          <a:ext cx="6400800" cy="4419360"/>
        </p:xfrm>
        <a:graphic>
          <a:graphicData uri="http://schemas.openxmlformats.org/drawingml/2006/table">
            <a:tbl>
              <a:tblPr/>
              <a:tblGrid>
                <a:gridCol w="2205000"/>
                <a:gridCol w="2301120"/>
                <a:gridCol w="1894680"/>
              </a:tblGrid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fault(inv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ult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440480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r=5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40810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r=10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4020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r=15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01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f=5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1105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f=10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85048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1(tf=150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24309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trebno je u narednom koraku iskodirati dobijene heksadecimalne reči, tako da se bliski defekti što više razdvoje, kako bi mrež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na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da su različ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 narednom slajdu dat je primer dobro iskodiranih defe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762120"/>
          <a:ext cx="8229600" cy="5841720"/>
        </p:xfrm>
        <a:graphic>
          <a:graphicData uri="http://schemas.openxmlformats.org/drawingml/2006/table">
            <a:tbl>
              <a:tblPr/>
              <a:tblGrid>
                <a:gridCol w="866880"/>
                <a:gridCol w="2166840"/>
                <a:gridCol w="2597040"/>
                <a:gridCol w="2598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 defek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a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d defek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40480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r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4889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r=2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46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r=4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C352C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f=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f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8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1(tf=1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2(tr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081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2(tr=2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0408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2(tr=4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101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2(tf=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811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2(tf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842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2(tf=1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11048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3(tr=10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8809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3(tr=25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10410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428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7:52:42Z</dcterms:created>
  <dc:creator>Deja</dc:creator>
  <dc:description/>
  <dc:language>en-US</dc:language>
  <cp:lastModifiedBy>Deja</cp:lastModifiedBy>
  <dcterms:modified xsi:type="dcterms:W3CDTF">2005-12-28T03:48:45Z</dcterms:modified>
  <cp:revision>6</cp:revision>
  <dc:subject/>
  <dc:title>Neuronske mreže</dc:title>
</cp:coreProperties>
</file>